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9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3.png" ContentType="image/png"/>
  <Override PartName="/ppt/media/image13.wmf" ContentType="image/x-wmf"/>
  <Override PartName="/ppt/media/image50.png" ContentType="image/png"/>
  <Override PartName="/ppt/media/image11.wmf" ContentType="image/x-wmf"/>
  <Override PartName="/ppt/media/image4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4F6623-FD54-4DF0-85F2-B43DF23EB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C99831-8215-43C2-A626-164DE06A2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EB2E54-3DC0-46B8-A3F7-5D9B64528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AFA5FB-BD62-4FCB-80B6-1C59AD4C8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42CAF9-10FE-4070-AFE2-59DB17AC9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B40A0A-8CF7-4C87-93D9-BF3CCB261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A9770A-495B-4C67-A531-867483411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49C1B7-597D-48E8-A224-26931F2E1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9EB4D7-0419-47E1-8462-AD9D5F24D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194A21-B246-4999-B924-CC5EE02CA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E034DC-4961-45FA-BA04-48CD27064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4072C4-9B7D-4453-AE77-49AB4AEB2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AA751F-AA4A-40A9-80C3-B87666AF7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A3A49E-7D85-4592-AC97-823A9DF51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494607-B6B2-4C86-AFC0-BCA184CB4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931D7C-0633-403F-BE8E-44C428942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206E65-7FE9-4DCC-8081-4FF50B224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58B50E-9AC0-45DB-AF6A-2FA60ADE1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179EC3-EB36-4F02-AEE0-9E77FCB2C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A23808-B9B1-4C07-B147-31065EC0C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6A4918-BC3F-42CA-BE2C-24B46F489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B13FE2-8DE3-4470-B1D5-620042F93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787A27-1900-496E-ABEB-524493E9A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B67307-01C7-4057-91B6-EB11011BC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DC44CB-AE1F-43AE-BEB4-76208FAD8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912DF4-53D3-4D93-8852-8CB75E56F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B3AA618-889F-46B4-AD20-FCD5C5A66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D0D90F-06CA-4AD8-983F-966825A6C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42523B-9986-48C7-8132-1FBC21307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709761-9D2A-4996-BA1D-4477C86F7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633BFF-3730-423C-9DB6-DEDAADAC5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1234F7-3BAE-49DF-9E7D-C23D622F4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747C97-952C-401D-8EC8-FEFE71C16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20EFD8-8DEB-43CE-9DD3-45922F0DC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9ADE81-79A4-44BC-8ADB-C5E79E50B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E6D00B-AFA4-4AF8-9B10-EBE3EA9C3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849F72-EB18-4B1F-BEDA-E38444037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606E43-3A6A-4BDF-BD10-457DC4958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5B5D61-3403-4226-910C-96662AC18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7B600A-40F9-4E8E-B5B2-C966885EE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A34E69-F05C-4AF1-B459-4705DB228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D89ADD-1BDB-41F4-98DC-51E59268F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EFC91C-516C-4DCD-974C-B6ECA8CC8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2B2337-DFDA-482E-9969-148D553F3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792AB3-F261-4BF4-9908-4F636E33E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FE9455-1F85-402F-8D6C-6A131C4EF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2311E9-8332-4757-AD9A-BAD798CF6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48967F-B640-40F4-B7D5-21BD1B51F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E28DA1-B752-468B-BB89-E8AA519A7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C55DDE-4B5F-4E25-8A9F-7564381EC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A46848-10CB-485C-9D13-4772BACEE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A92DDE-74D0-4EE9-8A4C-6780CD3FB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C2A08A-A157-4637-A653-1C1DBAF4E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CD7DF7-22F4-4D61-A929-D50666ED6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196FEA-5257-43F3-A16B-156448B3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D2CCC9-76E6-496C-B850-6C825A1AB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6EB370-7245-491C-AAE1-293053CC5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16322D-019B-4B0C-AB21-D40044657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9A4AFE-48B8-4508-B215-28AAC2D54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E8F240-52A0-4963-ADDD-657B5EB27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883201-5F91-45EB-B023-10D0F1CED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8671A0-BA94-4698-8273-E96F012A4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8DE6CE-C403-4C15-B6C9-4C783A1C6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107EF2-33F1-48C7-B779-3001EE2D7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913B81-9432-4943-B9CA-188C58A23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632E10-E574-4AB5-B3F3-CA359C57F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7D3145-5F3F-4C16-AA00-CBCEE72B1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8D2E76-D8E0-451D-883F-98F5039C2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7F6414-A883-43B3-A5E3-2F5897130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182950-A46B-4FA0-AA68-F0B08E821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68FB0F-6837-41D4-BF99-E98401993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F35367-18FA-4BD6-AF43-3525E915E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042FA7-EC73-46F5-8CD1-5B61315C0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0ACEBB-12BD-4A7F-BB13-C0C037027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8DB186-7BC1-48DF-B847-5D25A5724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9EC707-F07E-4E0B-9E7F-8C2499715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D92ECC-24DA-4B22-863B-BB9A51CC1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F9ACEB-4470-4782-AFA7-007A511D3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804771-4DCC-47CA-BC8E-D0B0047AE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0407FE-E36B-4D04-AFF3-BAAE5B6CA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593D4C-8B34-4B68-BCDE-91D28F916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8E9CDD-1D41-4E54-A312-F2D4D8384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CCB574-8AB8-4F28-B358-38742F2E7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620949-D64E-44D9-9D13-5725678A3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EE4B1F-03A1-42D2-936B-2FAD74C3A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DCFEDC-2C68-4EDE-A2F3-E0B4FC226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A08972-64E2-4CB7-B316-2B285B8F9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EBD015-1ACD-492E-9AB8-DF51B17DF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077086-BBE4-4CFE-B704-050DFCBC4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F1B805-BAE3-441C-A230-C23E871C2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2EADC-6458-4743-8C52-D58598B2FDC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7C3C1-3EA6-4438-AE3C-FD5B15315F0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4EC9F-3417-4257-90B9-61FCE96CE24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FB14A-D229-4334-96B1-8748D1B084E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CBCE5-ED82-4051-A368-BBF09ADC3E6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51642-293C-479E-8505-C9B85CC2F10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F547B-49E5-4C89-8A8C-9FE7752C8C9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62262-7A2A-4184-BBC4-27042005BA5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AF875-4F0C-4022-A211-860F6C72C78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DECD8-4DA0-4F93-9C61-C0A9E97FE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3FE1-69A7-4FF2-B462-112A7B012EB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0728-FAF9-463B-A9FE-3985FCAE241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F5027-FE04-4965-B04C-F98E23FB5FF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85F0D-D1BB-4933-A38A-EE6E5674B77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CD7A-8F46-420E-A3EA-1EF69EFFF1C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0BE9C-532C-4233-BB4D-AC7DD99B841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E7AC4-B112-41E3-9C87-787C72E9AC7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36459-8AAB-4332-94A4-504EC84643D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CF762-1510-4CA5-9D66-3F1EE076381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61942-D982-43C0-A99E-CE1689F4B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D4F4-DE82-46B8-AD13-FF5411EF1C2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454BC-E50B-4CCD-8DA0-86F9FCB8626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5504CF-C886-4F68-A11A-C92CFC1B5B8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DD9EBE-2537-4ED5-86C7-D774512500B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DE5A64-4E60-4AD9-AC18-3411E6AA402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C92EC7-4A6C-4B58-B1EB-676A4FA7747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AB2A2D-65B9-4773-8909-55F359C4BDF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8ADE39-3E9E-454D-9D99-804627BB690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E6A78C-6A93-4689-8C5A-3C818738206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1BA3B6-B267-46BA-87A9-FAEC3DD70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82CD-F770-4C20-8F08-C51B6AF5482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A7738F-1115-4CE2-A6DD-AC80E6CBB03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2F7455-7810-46BE-959B-91D61E7AA2A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0627A8-39B7-4908-87CF-FE1DDB52DE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B87D-EA31-424A-B3FC-D6B4DE3126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9968-ABBB-476D-A669-99993476F8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2028-B52E-401F-9906-50A4E48650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2DA4-52A7-486A-85D9-393C4850AD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2A15-676D-4080-8FF0-3671577708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652F-78A0-47AA-A9F7-6497342B38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DB17-E9ED-4F9E-892F-829EE59108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486A-4B76-4104-A6B4-6D96BF4FBE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173E-855E-4130-8A5D-30F6DF04BA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8F59-9CCC-4BCD-9A89-469E325769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5FC6-A784-4434-A7DB-4EF6C2C194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6FB2D-3718-4909-8304-BCE29DD92B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B082E-03C3-4C4D-8BB0-6E13E22CA5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B113-CF8A-4132-A590-66B834D494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3B3B-49E8-4567-B0DA-2A7716520A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F9D6-528F-4CC0-A998-87FADA55F6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2672-CB3B-4BBF-AF46-7C350DAE5B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E83EA-A336-4B55-A2E5-84AE354799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1422-4D6B-4A6C-91E1-70EA75F58C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E115-F2AB-41FD-9BCF-ABE36C2153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111E7-770D-4F89-92CB-EB045E1FEB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ED6A9-2062-4062-AA61-6A308938F6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5466-2DD5-468D-859B-13DB23214F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1D7-C584-4EC8-BCC0-DDEA2FE419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9C4-CF61-4925-B2DE-FBCB504357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3B3-9F02-4ACF-A765-ABC0C5447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8998-AB8A-40FC-9944-38DBBAAEE4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A14-D84D-4276-B5C4-3A10E0233B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B91-C0B8-4D67-B456-9C81ADC5CB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203-9C75-4432-936C-5D64CFD17D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9C5-1E47-4BCE-8F25-45A33B7A57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4A4-6C6C-4837-B477-4A973D4C35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032-88FA-4233-8AD8-DF96808639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014-2D2B-4F26-B2B1-ED9DB9B4B4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BB0-5376-4B17-80F7-61E7C7C879F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8A036-EA90-4A9B-8510-1829DC780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BCF80-44B3-4088-9DA4-E787490C1C7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4F480-2BFF-4DB6-B6FC-EB1E14EB7B1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5EE25-702A-4429-8963-EEC67D91FEF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14FD4-3412-4A57-A7C7-277D9B54A47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A257D-5076-48F5-9C05-2C2E048A988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DA2B8-2785-4816-B2BB-0FB57F412E3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0DCF2-294A-42C3-B45E-17043865F07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9EE85-8AEE-43EB-B7F1-9E640500F0F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2E429-97D6-4662-8942-3AB89137D47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4CC39-47EA-4867-9435-0064CF9FE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9D06A-A7E8-40C9-B8D7-31B8B7354ED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D191B-BB16-40A6-88B1-C5581CFD06C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8012B-8D79-4718-9BE3-4E3314E4805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FAFFB-FA69-4A45-9571-6C893EA2DD7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51A0C-C602-40DD-9B32-E220BA10034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D5747-6A95-448E-88FC-24B3F6739C1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8C198-B193-4B10-9F1F-78EE45458F7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50443-075B-4B11-830E-A1F1B63E9EC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B1426-7601-4136-B2C9-C57541DD975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0A23F-F011-4A64-BA6E-905047821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D3FA1-6B3C-4574-A46C-FE0F5EEAC2B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BA6A0-B0A1-48AE-8116-EA881831732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D19E3-59C0-40D2-BCE5-8388E74A4E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B0E8-8378-4FEA-9588-4C34AE47457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2FA0-2989-4B39-89DF-D3BC0720F1F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9CDC-35AB-4D50-A3C2-FA27A84FF0D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C327-3BDD-4152-8263-71E6EF24F4D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5987-9855-4900-9C0D-153440DC176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1E6F-4033-4DFA-9642-DD01B539661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4459-ED0B-49DA-B375-0D953A199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B592-5EFC-4C7D-B835-A3E30DCAB02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EF2E-DD0D-46C5-B8E4-23A249EBD7D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0BB6-4EB5-487B-9654-D43EB49468A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E5EB-A97E-481A-9979-1A9F8C9A0FB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9099-F606-4D9F-BEC7-49E9BBAEBA6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F3F5CB-D5CC-4511-9F05-BD7F6BD84AF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54DFFC-0B24-4B2C-A649-CB6C3C879D3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1D2BCB-5B8D-4814-AA67-C79950847EB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9C8A00-9C74-4174-8A5E-E301972C3C0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4905FA-A14E-4BFF-8955-E6CE68497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25D598-7E00-430E-B0ED-82122BE8F6A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0FDC9-82DD-4824-8CDC-B206D21AB16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CB059A-1DD3-42A3-8480-0FFC58C9DB1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EC6137-AF4F-450D-B256-CA720BB83D8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E6FAAE-4B34-4FDC-BC83-B0656E3C710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5457DE-F686-409D-9AF3-24A5AE6846A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FDF7E6-F66D-4901-B311-7DA2A54E719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2B1BA-C6E7-42E4-B7AE-821AC5FB77A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4C20D-11F9-4B4D-ACBE-FF7007BAAE3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C75AB-15F0-4788-A309-8541B96FE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Num" idx="9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3F70-995E-4E72-A300-D5AFE68FD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body"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indent="0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1" marL="114480" indent="-1080">
              <a:spcAft>
                <a:spcPts val="15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2" marL="459000"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3" marL="675720">
              <a:spcAft>
                <a:spcPts val="15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4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5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6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10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6663-58EA-4C53-9888-7964D902C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5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9"/>
          <p:cNvSpPr/>
          <p:nvPr/>
        </p:nvSpPr>
        <p:spPr>
          <a:xfrm flipV="1">
            <a:off x="0" y="-720"/>
            <a:ext cx="9144000" cy="1600200"/>
          </a:xfrm>
          <a:prstGeom prst="rect">
            <a:avLst/>
          </a:prstGeom>
          <a:solidFill>
            <a:srgbClr val="f9f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37" name="Rectangle 10"/>
          <p:cNvSpPr/>
          <p:nvPr/>
        </p:nvSpPr>
        <p:spPr>
          <a:xfrm>
            <a:off x="0" y="1600200"/>
            <a:ext cx="457200" cy="5257800"/>
          </a:xfrm>
          <a:prstGeom prst="rect">
            <a:avLst/>
          </a:prstGeom>
          <a:solidFill>
            <a:srgbClr val="a0c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38" name="Line 11"/>
          <p:cNvSpPr/>
          <p:nvPr/>
        </p:nvSpPr>
        <p:spPr>
          <a:xfrm flipH="1">
            <a:off x="0" y="1600200"/>
            <a:ext cx="914400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6999480" y="194040"/>
            <a:ext cx="17162280" cy="2779560"/>
          </a:xfrm>
          <a:prstGeom prst="rect">
            <a:avLst/>
          </a:prstGeom>
          <a:solidFill>
            <a:srgbClr val="fdc382"/>
          </a:solidFill>
          <a:ln w="0">
            <a:noFill/>
          </a:ln>
          <a:effectLst>
            <a:outerShdw dist="63504" dir="2216091" blurRad="0" rotWithShape="0">
              <a:srgbClr val="5f5f5f"/>
            </a:outerShdw>
          </a:effectLst>
        </p:spPr>
        <p:txBody>
          <a:bodyPr lIns="182880" rIns="18288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-2732400"/>
            <a:ext cx="7315200" cy="142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Click to edit the outline text format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1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Second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2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Third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3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Fourth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4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Fifth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5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Sixth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6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Seventh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A633-E19C-4BE8-8C1D-DD6A9F6A1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c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 flipV="1">
            <a:off x="0" y="0"/>
            <a:ext cx="9144000" cy="457200"/>
          </a:xfrm>
          <a:prstGeom prst="rect">
            <a:avLst/>
          </a:prstGeom>
          <a:solidFill>
            <a:srgbClr val="f9f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457200"/>
            <a:ext cx="914400" cy="6400800"/>
          </a:xfrm>
          <a:prstGeom prst="rect">
            <a:avLst/>
          </a:prstGeom>
          <a:solidFill>
            <a:srgbClr val="f0f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H="1">
            <a:off x="0" y="457200"/>
            <a:ext cx="914400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219320" y="761760"/>
            <a:ext cx="7772400" cy="34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030480" indent="-11736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37356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71628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71628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71628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2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A0CF-FAB4-4BBC-B7E3-DE0E869A0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title"/>
          </p:nvPr>
        </p:nvSpPr>
        <p:spPr>
          <a:xfrm>
            <a:off x="-360" y="-3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vantGar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5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 flipH="1">
            <a:off x="151920" y="457200"/>
            <a:ext cx="8991720" cy="0"/>
          </a:xfrm>
          <a:prstGeom prst="line">
            <a:avLst/>
          </a:prstGeom>
          <a:ln w="38160">
            <a:solidFill>
              <a:srgbClr val="67b4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90720" y="1255320"/>
            <a:ext cx="7238880" cy="34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5000"/>
              </a:lnSpc>
              <a:spcAft>
                <a:spcPts val="700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30168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14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3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C02A-1481-4B6C-B8A1-170BC7F7E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title"/>
          </p:nvPr>
        </p:nvSpPr>
        <p:spPr>
          <a:xfrm>
            <a:off x="762120" y="533160"/>
            <a:ext cx="670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685800" y="76320"/>
            <a:ext cx="0" cy="6781680"/>
          </a:xfrm>
          <a:prstGeom prst="line">
            <a:avLst/>
          </a:prstGeom>
          <a:ln w="38160">
            <a:solidFill>
              <a:srgbClr val="67b4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09120" y="460080"/>
            <a:ext cx="7543800" cy="2876760"/>
          </a:xfrm>
          <a:prstGeom prst="rect">
            <a:avLst/>
          </a:prstGeom>
          <a:solidFill>
            <a:srgbClr val="fff7eb"/>
          </a:solidFill>
          <a:ln w="12600">
            <a:solidFill>
              <a:srgbClr val="f9a75e"/>
            </a:solidFill>
            <a:miter/>
          </a:ln>
        </p:spPr>
        <p:txBody>
          <a:bodyPr lIns="182880" rIns="182880" tIns="91440" bIns="91440" anchor="t">
            <a:normAutofit fontScale="99000"/>
          </a:bodyPr>
          <a:p>
            <a:pPr marL="790200" indent="0">
              <a:lnSpc>
                <a:spcPct val="9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Num" idx="4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CBA2-7A4E-4978-84C7-4B8DD6245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Num" idx="5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FA5D-410D-447D-9428-8BBD2774E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914400" y="1600200"/>
            <a:ext cx="8229600" cy="0"/>
          </a:xfrm>
          <a:prstGeom prst="line">
            <a:avLst/>
          </a:prstGeom>
          <a:ln w="25560">
            <a:solidFill>
              <a:srgbClr val="5ad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0" y="5867280"/>
            <a:ext cx="8229600" cy="0"/>
          </a:xfrm>
          <a:prstGeom prst="line">
            <a:avLst/>
          </a:prstGeom>
          <a:ln w="25560">
            <a:solidFill>
              <a:srgbClr val="5ad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body"/>
          </p:nvPr>
        </p:nvSpPr>
        <p:spPr>
          <a:xfrm>
            <a:off x="1371600" y="1631520"/>
            <a:ext cx="7238880" cy="34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64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8080" indent="-64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Num" idx="6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E1A4-4AEC-45AE-89BD-6D1BE5EF5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0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AGaramond"/>
              </a:rPr>
              <a:t>Click to edit the outline text format</a:t>
            </a: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  <a:p>
            <a:pPr lvl="1" marL="678600" indent="0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AGaramond"/>
              </a:rPr>
              <a:t>Second Outline Level</a:t>
            </a: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  <a:p>
            <a:pPr lvl="2" marL="1131480" indent="-226080">
              <a:spcAft>
                <a:spcPts val="938"/>
              </a:spcAft>
              <a:buClr>
                <a:srgbClr val="000000"/>
              </a:buClr>
              <a:buFont typeface="A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AGaramond"/>
              </a:rPr>
              <a:t>Third Outline Level</a:t>
            </a: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  <a:p>
            <a:pPr lvl="3" marL="1584000" indent="-226080">
              <a:spcAft>
                <a:spcPts val="938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AGaramond"/>
              </a:rPr>
              <a:t>Fourth Outline Level</a:t>
            </a: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  <a:p>
            <a:pPr lvl="4" marL="2036520" indent="-226080">
              <a:spcAft>
                <a:spcPts val="938"/>
              </a:spcAft>
              <a:buClr>
                <a:srgbClr val="000000"/>
              </a:buClr>
              <a:buFont typeface="A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AGaramond"/>
              </a:rPr>
              <a:t>Fifth Outline Level</a:t>
            </a: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  <a:p>
            <a:pPr lvl="5" marL="2036520" indent="-226080">
              <a:spcBef>
                <a:spcPts val="751"/>
              </a:spcBef>
              <a:buClr>
                <a:srgbClr val="000000"/>
              </a:buClr>
              <a:buFont typeface="A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AGaramond"/>
              </a:rPr>
              <a:t>Sixth Outline Level</a:t>
            </a: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  <a:p>
            <a:pPr lvl="6" marL="2036520" indent="-226080">
              <a:spcBef>
                <a:spcPts val="751"/>
              </a:spcBef>
              <a:buClr>
                <a:srgbClr val="000000"/>
              </a:buClr>
              <a:buFont typeface="A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AGaramond"/>
              </a:rPr>
              <a:t>Seventh Outline Level</a:t>
            </a: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indent="0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1" marL="114480" indent="-1080">
              <a:spcAft>
                <a:spcPts val="15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2" marL="459000"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3" marL="675720">
              <a:spcAft>
                <a:spcPts val="15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4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5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6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7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B962-BA99-4548-BC52-84628C6D2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Num" idx="8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1357-A0A7-4C71-A511-23D8DE708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body"/>
          </p:nvPr>
        </p:nvSpPr>
        <p:spPr>
          <a:xfrm>
            <a:off x="914400" y="1455840"/>
            <a:ext cx="73152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Click to edit the outline text format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1" marL="463680" indent="-6480">
              <a:spcAft>
                <a:spcPts val="938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Second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2" marL="914400"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Third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3" marL="1378080" indent="-6480">
              <a:spcAft>
                <a:spcPts val="938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Fourth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4" marL="1828800">
              <a:spcAft>
                <a:spcPts val="9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Fifth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5" marL="1828800">
              <a:spcAft>
                <a:spcPts val="9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Sixth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6" marL="1828800">
              <a:spcAft>
                <a:spcPts val="9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Seventh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977B-2EA3-4B05-A393-FA0FEFB5A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3440" y="888480"/>
            <a:ext cx="1042920" cy="1390680"/>
          </a:xfrm>
          <a:prstGeom prst="rect">
            <a:avLst/>
          </a:prstGeom>
          <a:solidFill>
            <a:srgbClr val="fdc382"/>
          </a:solidFill>
          <a:ln w="0">
            <a:noFill/>
          </a:ln>
          <a:effectLst>
            <a:outerShdw dist="63504" dir="2216091" blurRad="0" rotWithShape="0">
              <a:srgbClr val="5f5f5f"/>
            </a:outerShdw>
          </a:effectLst>
        </p:spPr>
        <p:txBody>
          <a:bodyPr lIns="182880" rIns="18288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040" y="3050640"/>
            <a:ext cx="7543800" cy="269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9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f87c6"/>
                </a:solidFill>
                <a:latin typeface="Arial"/>
              </a:rPr>
              <a:t>Obj</a:t>
            </a:r>
            <a:r>
              <a:rPr b="0" lang="sr-Latn-CS" sz="6000" spc="-1" strike="noStrike">
                <a:solidFill>
                  <a:srgbClr val="4f87c6"/>
                </a:solidFill>
                <a:latin typeface="Arial"/>
              </a:rPr>
              <a:t>e</a:t>
            </a:r>
            <a:r>
              <a:rPr b="0" lang="en-US" sz="6000" spc="-1" strike="noStrike">
                <a:solidFill>
                  <a:srgbClr val="4f87c6"/>
                </a:solidFill>
                <a:latin typeface="Arial"/>
              </a:rPr>
              <a:t>ktno-orijentisano programiranje: naslje</a:t>
            </a:r>
            <a:r>
              <a:rPr b="0" lang="sr-Latn-CS" sz="6000" spc="-1" strike="noStrike">
                <a:solidFill>
                  <a:srgbClr val="4f87c6"/>
                </a:solidFill>
                <a:latin typeface="Arial"/>
              </a:rPr>
              <a:t>đ</a:t>
            </a:r>
            <a:r>
              <a:rPr b="0" lang="en-US" sz="6000" spc="-1" strike="noStrike">
                <a:solidFill>
                  <a:srgbClr val="4f87c6"/>
                </a:solidFill>
                <a:latin typeface="Arial"/>
              </a:rPr>
              <a:t>ivanje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2A4F-DCBB-4CF5-A440-03F422B06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9.2 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Nadklase i podklase </a:t>
            </a: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(nastavak)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Hijerahija nasljeđivanja (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heritance hierarchy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Realacija naljeđivanj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 drvolika struktur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Svaka klasa je ILI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adklas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Obezbejeđuje članove drugim klasam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Aft>
                <a:spcPts val="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L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odklas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asljeđuje članove od drugih klas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9B0F-418D-452A-9FED-2DC9D9186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 9.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jerahija nasljeđivanja za članove univerzitet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CommunityMember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s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AAEMYRT0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A668-9B80-490B-8C47-85A2F17F7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240" y="5483160"/>
            <a:ext cx="7924680" cy="68904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 9.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jerahija nasljeđivanja za geometrijska tijela i figure (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Shape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s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" descr="AAEMYRU0"/>
          <p:cNvPicPr/>
          <p:nvPr/>
        </p:nvPicPr>
        <p:blipFill>
          <a:blip r:embed="rId1"/>
          <a:stretch/>
        </p:blipFill>
        <p:spPr>
          <a:xfrm>
            <a:off x="762120" y="1878120"/>
            <a:ext cx="754380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7D5D-E759-4558-A231-73B68E946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9.3 </a:t>
            </a:r>
            <a:r>
              <a:rPr b="1" lang="en-US" sz="3600" spc="-1" strike="noStrike">
                <a:solidFill>
                  <a:srgbClr val="f9a75e"/>
                </a:solidFill>
                <a:latin typeface="Lucida Console"/>
              </a:rPr>
              <a:t>protected</a:t>
            </a: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članovi klase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istu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Međunivo zaštite između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M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članovi klase dostupni s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kroz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Članove nad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Članove pod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Članove klasa iz istog pake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Pristup iz podklase članovima nadklas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ljučna riječ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up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 simbol tačk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.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F3CE-E546-4A8A-BFC9-E1543C547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1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1560" y="2204640"/>
            <a:ext cx="783432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odklase ne mogu direktno pristupati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priv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anovima nadklasa. Podklasa može mijenjati stanj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ana nadklase samo preko metoda koji nij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je deklarisan u nadklasi pa ga podklasa nasljeđuj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52FF-D231-423D-87E3-15FE704D0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2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41560" y="2139480"/>
            <a:ext cx="7834320" cy="280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r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anj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članova klase pomaže programerima da testiraju , dibaguju i modifikuju sistem na ispravna način. Ako bi podklasa imala pristup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članovima nadklase, tada bi njene podklase mogle pristupati privatnin članovima nadklase. Na taj način bi se izgubile prednosti sakrivanja informacij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B38F-5457-4AD0-B4AE-AA6FBC607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9.4 Ve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z</a:t>
            </a: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a nadklase i podkalse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Veza nadklase i podkla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Hijerahija nasljeđivanja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CommissionEmployee/BasePlusCommissionEmploy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nam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(im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last nam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(prezim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SSN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(social security number, ekvivalent našeg JMBG-a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commission rate, gross sale amou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BasePlusCommissionEmploy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name, last name, SSN, commission rate, gross sale amou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e salary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(osnovna plat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C794-8805-472A-9261-600BA466D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75e"/>
                </a:solidFill>
                <a:latin typeface="Arial"/>
              </a:rPr>
              <a:t>9.4.1 </a:t>
            </a:r>
            <a:r>
              <a:rPr b="1" lang="sr-Latn-CS" sz="3200" spc="-1" strike="noStrike">
                <a:solidFill>
                  <a:srgbClr val="f9a75e"/>
                </a:solidFill>
                <a:latin typeface="Arial"/>
              </a:rPr>
              <a:t>Kreiranje i upotreba klase</a:t>
            </a:r>
            <a:r>
              <a:rPr b="1" lang="en-US" sz="32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9a75e"/>
                </a:solidFill>
                <a:latin typeface="Lucida Console"/>
              </a:rPr>
              <a:t>CommissionEmployee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Izvedena iz klase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Object</a:t>
            </a:r>
            <a:r>
              <a:rPr b="1" lang="sr-Latn-CS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tends class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Object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ljučna rije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exten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vaka klasa u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zvedena je iz postojeće 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zuzetak je klas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Objec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vaka klasa nasljeđuje metode klase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Objec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ova klas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mplicit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o je izvedena iz kl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Osim ako nije izvedena iz neke druge 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B7EE-7397-437E-AA36-E2C08008E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3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41560" y="1981080"/>
            <a:ext cx="7834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r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avlja da je klasa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Obje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klasa klase koju deklarišete ako nije ekplicitno navedena nadklas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CBA8-18E0-434E-B859-19EBA699B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4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6-10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6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7-21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20-21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499" name="Object 6"/>
          <p:cNvGraphicFramePr/>
          <p:nvPr/>
        </p:nvGraphicFramePr>
        <p:xfrm>
          <a:off x="1440" y="1440"/>
          <a:ext cx="7059600" cy="62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40"/>
                    <a:ext cx="7059600" cy="62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1" name="Group 11"/>
          <p:cNvGrpSpPr/>
          <p:nvPr/>
        </p:nvGrpSpPr>
        <p:grpSpPr>
          <a:xfrm>
            <a:off x="3657600" y="762120"/>
            <a:ext cx="3962520" cy="580680"/>
            <a:chOff x="3657600" y="762120"/>
            <a:chExt cx="3962520" cy="580680"/>
          </a:xfrm>
        </p:grpSpPr>
        <p:sp>
          <p:nvSpPr>
            <p:cNvPr id="502" name="Text Box 9"/>
            <p:cNvSpPr/>
            <p:nvPr/>
          </p:nvSpPr>
          <p:spPr>
            <a:xfrm>
              <a:off x="4572000" y="762120"/>
              <a:ext cx="304812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las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extend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las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Object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03" name="Line 10"/>
            <p:cNvSpPr/>
            <p:nvPr/>
          </p:nvSpPr>
          <p:spPr>
            <a:xfrm flipH="1" flipV="1">
              <a:off x="3657600" y="83772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504" name="Text Box 13"/>
          <p:cNvSpPr/>
          <p:nvPr/>
        </p:nvSpPr>
        <p:spPr>
          <a:xfrm>
            <a:off x="4876920" y="1828800"/>
            <a:ext cx="2133360" cy="580680"/>
          </a:xfrm>
          <a:prstGeom prst="rect">
            <a:avLst/>
          </a:prstGeom>
          <a:solidFill>
            <a:srgbClr val="f0f5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licit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poziv konstruktora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Object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05" name="Line 14"/>
          <p:cNvSpPr/>
          <p:nvPr/>
        </p:nvSpPr>
        <p:spPr>
          <a:xfrm flipH="1">
            <a:off x="3580920" y="2209680"/>
            <a:ext cx="12956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06" name="Text Box 16"/>
          <p:cNvSpPr/>
          <p:nvPr/>
        </p:nvSpPr>
        <p:spPr>
          <a:xfrm>
            <a:off x="4038480" y="2666880"/>
            <a:ext cx="2517840" cy="337320"/>
          </a:xfrm>
          <a:prstGeom prst="rect">
            <a:avLst/>
          </a:prstGeom>
          <a:solidFill>
            <a:srgbClr val="f0f5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i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cija članova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07" name="Line 17"/>
          <p:cNvSpPr/>
          <p:nvPr/>
        </p:nvSpPr>
        <p:spPr>
          <a:xfrm flipH="1">
            <a:off x="2514600" y="304812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08" name="Text Box 19"/>
          <p:cNvSpPr/>
          <p:nvPr/>
        </p:nvSpPr>
        <p:spPr>
          <a:xfrm>
            <a:off x="5029200" y="152280"/>
            <a:ext cx="1974960" cy="580680"/>
          </a:xfrm>
          <a:prstGeom prst="rect">
            <a:avLst/>
          </a:prstGeom>
          <a:solidFill>
            <a:srgbClr val="f0f5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članova klase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09" name="Line 20"/>
          <p:cNvSpPr/>
          <p:nvPr/>
        </p:nvSpPr>
        <p:spPr>
          <a:xfrm flipH="1">
            <a:off x="3733920" y="533520"/>
            <a:ext cx="12952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grpSp>
        <p:nvGrpSpPr>
          <p:cNvPr id="510" name="Group 21"/>
          <p:cNvGrpSpPr/>
          <p:nvPr/>
        </p:nvGrpSpPr>
        <p:grpSpPr>
          <a:xfrm>
            <a:off x="2743200" y="3200400"/>
            <a:ext cx="5714640" cy="838080"/>
            <a:chOff x="2743200" y="3200400"/>
            <a:chExt cx="5714640" cy="838080"/>
          </a:xfrm>
        </p:grpSpPr>
        <p:sp>
          <p:nvSpPr>
            <p:cNvPr id="511" name="Text Box 22"/>
            <p:cNvSpPr/>
            <p:nvPr/>
          </p:nvSpPr>
          <p:spPr>
            <a:xfrm>
              <a:off x="4755960" y="3200400"/>
              <a:ext cx="37018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Pozivi metod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setGross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setCommissionR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a validaciju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12" name="Line 23"/>
            <p:cNvSpPr/>
            <p:nvPr/>
          </p:nvSpPr>
          <p:spPr>
            <a:xfrm flipH="1">
              <a:off x="2743200" y="3352680"/>
              <a:ext cx="2010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" dur="1" fill="hold"/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AE20-4C90-45E7-BF32-961BB4D23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vantGarde"/>
              </a:rPr>
              <a:t>     </a:t>
            </a:r>
            <a:endParaRPr b="1" lang="en-US" sz="14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8001000" cy="588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ay not you know another entirely, till you have divided an inheritance with him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ann Kasper Lava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0">
              <a:lnSpc>
                <a:spcPct val="95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s method is to define as the number of a class the class of all classes similar to the given class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rtrand Russe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0">
              <a:lnSpc>
                <a:spcPct val="9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od as it is to inherit a library, it is better to collect one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gustine Birre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ave base authority from others' books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iam Shakespea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0">
              <a:lnSpc>
                <a:spcPct val="9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0">
              <a:lnSpc>
                <a:spcPct val="95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038A-2B94-41EB-95CF-70B490F79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16" name="Object 4"/>
          <p:cNvGraphicFramePr/>
          <p:nvPr/>
        </p:nvGraphicFramePr>
        <p:xfrm>
          <a:off x="0" y="0"/>
          <a:ext cx="7099200" cy="62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99200" cy="62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B12E-8C19-47E1-9C5C-8B06A57A3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62560" y="1066320"/>
            <a:ext cx="1981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85-88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21" name="Object 4"/>
          <p:cNvGraphicFramePr/>
          <p:nvPr/>
        </p:nvGraphicFramePr>
        <p:xfrm>
          <a:off x="0" y="6480"/>
          <a:ext cx="7093080" cy="59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709308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Group 6"/>
          <p:cNvGrpSpPr/>
          <p:nvPr/>
        </p:nvGrpSpPr>
        <p:grpSpPr>
          <a:xfrm>
            <a:off x="2666520" y="4114800"/>
            <a:ext cx="3886200" cy="838080"/>
            <a:chOff x="2666520" y="4114800"/>
            <a:chExt cx="3886200" cy="838080"/>
          </a:xfrm>
        </p:grpSpPr>
        <p:sp>
          <p:nvSpPr>
            <p:cNvPr id="524" name="Text Box 7"/>
            <p:cNvSpPr/>
            <p:nvPr/>
          </p:nvSpPr>
          <p:spPr>
            <a:xfrm>
              <a:off x="4035600" y="4114800"/>
              <a:ext cx="2517120" cy="33732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Izračunava zarad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25" name="Line 8"/>
            <p:cNvSpPr/>
            <p:nvPr/>
          </p:nvSpPr>
          <p:spPr>
            <a:xfrm flipH="1">
              <a:off x="2666520" y="4267080"/>
              <a:ext cx="1366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FF76-9077-4DC0-BA7A-030066252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141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91-98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29" name="Object 4"/>
          <p:cNvGraphicFramePr/>
          <p:nvPr/>
        </p:nvGraphicFramePr>
        <p:xfrm>
          <a:off x="0" y="3240"/>
          <a:ext cx="7039080" cy="244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0390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1" name="Group 9"/>
          <p:cNvGrpSpPr/>
          <p:nvPr/>
        </p:nvGrpSpPr>
        <p:grpSpPr>
          <a:xfrm>
            <a:off x="2666520" y="304920"/>
            <a:ext cx="4725000" cy="885240"/>
            <a:chOff x="2666520" y="304920"/>
            <a:chExt cx="4725000" cy="885240"/>
          </a:xfrm>
        </p:grpSpPr>
        <p:sp>
          <p:nvSpPr>
            <p:cNvPr id="532" name="Text Box 7"/>
            <p:cNvSpPr/>
            <p:nvPr/>
          </p:nvSpPr>
          <p:spPr>
            <a:xfrm>
              <a:off x="4724280" y="609480"/>
              <a:ext cx="266724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Predefinisanje metod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to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l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Object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33" name="Line 8"/>
            <p:cNvSpPr/>
            <p:nvPr/>
          </p:nvSpPr>
          <p:spPr>
            <a:xfrm flipH="1" flipV="1">
              <a:off x="2666520" y="304920"/>
              <a:ext cx="2057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" dur="1" fill="hold"/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0FC0-5469-42F9-9370-CD4FBF59C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Uobičajena programerska gre</a:t>
            </a:r>
            <a:r>
              <a:rPr b="1" lang="sr-Latn-CS" sz="3200" spc="-1" strike="noStrike">
                <a:solidFill>
                  <a:srgbClr val="5ad9b3"/>
                </a:solidFill>
                <a:latin typeface="Arial"/>
                <a:ea typeface="Arial"/>
              </a:rPr>
              <a:t>š</a:t>
            </a: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ka 9.1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41560" y="1905120"/>
            <a:ext cx="731664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intaksna je greška predefinisati metod koji ima restriktivniji pristupni modifikator. Npr.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ubli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nadklase ne može postati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odkla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dklase ne može postati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 podklasi. Ako to uradite, narušava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is-a”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relaciju u kojoj se zahtijeva da svaki objekat podklase može odgovoriti na poziv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etoda deklarisanog u nadklasi.(nastavak na sljedećem slajd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D05C-C985-4A10-83CD-EE73D4129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823104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Arial"/>
              </a:rPr>
              <a:t>Uobičajena programerska gre</a:t>
            </a:r>
            <a:r>
              <a:rPr b="1" lang="sr-Latn-CS" sz="3600" spc="-1" strike="noStrike">
                <a:solidFill>
                  <a:srgbClr val="5ad9b3"/>
                </a:solidFill>
                <a:latin typeface="Arial"/>
                <a:ea typeface="Arial"/>
              </a:rPr>
              <a:t>š</a:t>
            </a: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Arial"/>
              </a:rPr>
              <a:t>ka 9.1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834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ko bi npr.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ogao biti predefinisan (engl. overriden) kao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u podklas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objekti podklase ne bi mogli da odgovore na taj poziv metoda kao objekti nadklase. Ako je metod definisan kao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 nadklas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on ostaj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 svim podklasama te klas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2144-E78C-4314-878E-13282BB76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Test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9-10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5-25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6-27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43" name="Object 6"/>
          <p:cNvGraphicFramePr/>
          <p:nvPr/>
        </p:nvGraphicFramePr>
        <p:xfrm>
          <a:off x="0" y="4680"/>
          <a:ext cx="703728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3728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5" name="Group 11"/>
          <p:cNvGrpSpPr/>
          <p:nvPr/>
        </p:nvGrpSpPr>
        <p:grpSpPr>
          <a:xfrm>
            <a:off x="3276720" y="762120"/>
            <a:ext cx="3886200" cy="838080"/>
            <a:chOff x="3276720" y="762120"/>
            <a:chExt cx="3886200" cy="838080"/>
          </a:xfrm>
        </p:grpSpPr>
        <p:sp>
          <p:nvSpPr>
            <p:cNvPr id="546" name="Text Box 9"/>
            <p:cNvSpPr/>
            <p:nvPr/>
          </p:nvSpPr>
          <p:spPr>
            <a:xfrm>
              <a:off x="3276720" y="762120"/>
              <a:ext cx="3886200" cy="33732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ek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47" name="Line 10"/>
            <p:cNvSpPr/>
            <p:nvPr/>
          </p:nvSpPr>
          <p:spPr>
            <a:xfrm flipH="1">
              <a:off x="4267080" y="11430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548" name="Group 15"/>
          <p:cNvGrpSpPr/>
          <p:nvPr/>
        </p:nvGrpSpPr>
        <p:grpSpPr>
          <a:xfrm>
            <a:off x="3429000" y="2819520"/>
            <a:ext cx="4647960" cy="1066680"/>
            <a:chOff x="3429000" y="2819520"/>
            <a:chExt cx="4647960" cy="1066680"/>
          </a:xfrm>
        </p:grpSpPr>
        <p:sp>
          <p:nvSpPr>
            <p:cNvPr id="549" name="Text Box 13"/>
            <p:cNvSpPr/>
            <p:nvPr/>
          </p:nvSpPr>
          <p:spPr>
            <a:xfrm>
              <a:off x="3429000" y="2819520"/>
              <a:ext cx="4647960" cy="33732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Upotreba metoda </a:t>
              </a:r>
              <a:r>
                <a:rPr b="0" i="1" lang="sr-Latn-CS" sz="1600" spc="-1" strike="noStrike">
                  <a:solidFill>
                    <a:srgbClr val="000000"/>
                  </a:solidFill>
                  <a:latin typeface="Times New Roman"/>
                </a:rPr>
                <a:t>get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mmissionEmploye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50" name="Line 14"/>
            <p:cNvSpPr/>
            <p:nvPr/>
          </p:nvSpPr>
          <p:spPr>
            <a:xfrm flipH="1">
              <a:off x="4461480" y="3429000"/>
              <a:ext cx="1032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551" name="Group 16"/>
          <p:cNvGrpSpPr/>
          <p:nvPr/>
        </p:nvGrpSpPr>
        <p:grpSpPr>
          <a:xfrm>
            <a:off x="4114800" y="4114800"/>
            <a:ext cx="4038480" cy="1066680"/>
            <a:chOff x="4114800" y="4114800"/>
            <a:chExt cx="4038480" cy="1066680"/>
          </a:xfrm>
        </p:grpSpPr>
        <p:sp>
          <p:nvSpPr>
            <p:cNvPr id="552" name="Text Box 17"/>
            <p:cNvSpPr/>
            <p:nvPr/>
          </p:nvSpPr>
          <p:spPr>
            <a:xfrm>
              <a:off x="4114800" y="4114800"/>
              <a:ext cx="40384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Upotreba metod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issionEmploye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53" name="Line 18"/>
            <p:cNvSpPr/>
            <p:nvPr/>
          </p:nvSpPr>
          <p:spPr>
            <a:xfrm flipH="1">
              <a:off x="5011920" y="4724280"/>
              <a:ext cx="897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" dur="1" fill="hold"/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649C-AB7D-4DA4-8736-2061A188C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165440" y="1068480"/>
            <a:ext cx="1978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Test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0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57" name="Object 4"/>
          <p:cNvGraphicFramePr/>
          <p:nvPr/>
        </p:nvGraphicFramePr>
        <p:xfrm>
          <a:off x="0" y="0"/>
          <a:ext cx="706608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660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9" name="Group 9"/>
          <p:cNvGrpSpPr/>
          <p:nvPr/>
        </p:nvGrpSpPr>
        <p:grpSpPr>
          <a:xfrm>
            <a:off x="5790960" y="456840"/>
            <a:ext cx="2210040" cy="885960"/>
            <a:chOff x="5790960" y="456840"/>
            <a:chExt cx="2210040" cy="885960"/>
          </a:xfrm>
        </p:grpSpPr>
        <p:sp>
          <p:nvSpPr>
            <p:cNvPr id="560" name="Text Box 7"/>
            <p:cNvSpPr/>
            <p:nvPr/>
          </p:nvSpPr>
          <p:spPr>
            <a:xfrm>
              <a:off x="5899320" y="762120"/>
              <a:ext cx="21016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licit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ni poziv metod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toString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61" name="Line 8"/>
            <p:cNvSpPr/>
            <p:nvPr/>
          </p:nvSpPr>
          <p:spPr>
            <a:xfrm flipH="1" flipV="1">
              <a:off x="5790960" y="45684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0" dur="1" fill="hold"/>
                                  <p:tgtEl>
                                    <p:spTgt spid="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FF74-6772-437E-B35C-F58FF7169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9a75e"/>
                </a:solidFill>
                <a:latin typeface="Arial"/>
              </a:rPr>
              <a:t>9.4.2 </a:t>
            </a:r>
            <a:r>
              <a:rPr b="1" lang="sr-Latn-CS" sz="3200" spc="-1" strike="noStrike">
                <a:solidFill>
                  <a:srgbClr val="f9a75e"/>
                </a:solidFill>
                <a:latin typeface="Arial"/>
              </a:rPr>
              <a:t>Kreiranje klase</a:t>
            </a:r>
            <a:r>
              <a:rPr b="1" lang="sr-Latn-CS" sz="26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9a75e"/>
                </a:solidFill>
                <a:latin typeface="Lucida Console"/>
              </a:rPr>
              <a:t>BasePlusCommissionEmployee</a:t>
            </a:r>
            <a:r>
              <a:rPr b="1" lang="en-US" sz="26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9a75e"/>
                </a:solidFill>
                <a:latin typeface="Arial"/>
              </a:rPr>
              <a:t>bez upotrebe nasljeđivanja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BasePlusCommissionEmploye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mplicit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o nasljeđuje klas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Objec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Večina koda slična je klasi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članovi 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od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stru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Dodaci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član kl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baseSal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od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etBaseSal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getBaseSal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79AA-7517-492E-BB4E-6ABFD4F3D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2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4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68" name="Object 6"/>
          <p:cNvGraphicFramePr/>
          <p:nvPr/>
        </p:nvGraphicFramePr>
        <p:xfrm>
          <a:off x="0" y="9360"/>
          <a:ext cx="702936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0"/>
                    <a:ext cx="702936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0" name="Group 8"/>
          <p:cNvGrpSpPr/>
          <p:nvPr/>
        </p:nvGrpSpPr>
        <p:grpSpPr>
          <a:xfrm>
            <a:off x="2742840" y="1676520"/>
            <a:ext cx="5181480" cy="761400"/>
            <a:chOff x="2742840" y="1676520"/>
            <a:chExt cx="5181480" cy="761400"/>
          </a:xfrm>
        </p:grpSpPr>
        <p:sp>
          <p:nvSpPr>
            <p:cNvPr id="571" name="Text Box 9"/>
            <p:cNvSpPr/>
            <p:nvPr/>
          </p:nvSpPr>
          <p:spPr>
            <a:xfrm>
              <a:off x="4568040" y="1676520"/>
              <a:ext cx="3356280" cy="33732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Dodajemo član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Salary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72" name="Line 10"/>
            <p:cNvSpPr/>
            <p:nvPr/>
          </p:nvSpPr>
          <p:spPr>
            <a:xfrm flipH="1">
              <a:off x="2742840" y="1814760"/>
              <a:ext cx="182268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573" name="Group 14"/>
          <p:cNvGrpSpPr/>
          <p:nvPr/>
        </p:nvGrpSpPr>
        <p:grpSpPr>
          <a:xfrm>
            <a:off x="2819520" y="4191120"/>
            <a:ext cx="4651200" cy="914400"/>
            <a:chOff x="2819520" y="4191120"/>
            <a:chExt cx="4651200" cy="914400"/>
          </a:xfrm>
        </p:grpSpPr>
        <p:sp>
          <p:nvSpPr>
            <p:cNvPr id="574" name="Text Box 12"/>
            <p:cNvSpPr/>
            <p:nvPr/>
          </p:nvSpPr>
          <p:spPr>
            <a:xfrm>
              <a:off x="4648320" y="4191120"/>
              <a:ext cx="282240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Met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setBase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a validaciju podatak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H="1">
              <a:off x="2819520" y="4481640"/>
              <a:ext cx="182232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5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319E-D96F-443A-BAC9-C448C51CC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79" name="Object 6"/>
          <p:cNvGraphicFramePr/>
          <p:nvPr/>
        </p:nvGraphicFramePr>
        <p:xfrm>
          <a:off x="0" y="0"/>
          <a:ext cx="706896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6896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5421-25DA-4405-BDFF-E0875F4C4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6705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9a75e"/>
                </a:solidFill>
                <a:latin typeface="Arial"/>
              </a:rPr>
              <a:t>Ciljevi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46748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lnSpc>
                <a:spcPct val="9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 ovoj lekciji naučić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nasljeđivanje promoviše ponovnu upotrebu softv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jmove nadklase i podkl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potrebu ključne riječi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exte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kreiranje klase koja nasljeđuje atribute i ponašanje od druge klas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 koristite pristupni modifikator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 podkalsi date mogućnost pristupa članvima nadkl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 pristupate članovima nadklase pomoću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se konstruktori koriste u hijerahiji nasljeđivanj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tode klas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a 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tno i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 nadklasa svih klasa u Jav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8BE2-8CDA-4E16-AFAD-69550002A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84" name="Object 4"/>
          <p:cNvGraphicFramePr/>
          <p:nvPr/>
        </p:nvGraphicFramePr>
        <p:xfrm>
          <a:off x="0" y="0"/>
          <a:ext cx="7095960" cy="65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959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65F2-1F48-45A9-9070-FFE194A7E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275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88-91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94-97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02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08-113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89" name="Object 4"/>
          <p:cNvGraphicFramePr/>
          <p:nvPr/>
        </p:nvGraphicFramePr>
        <p:xfrm>
          <a:off x="0" y="6480"/>
          <a:ext cx="7045200" cy="627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7045200" cy="62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" name="Group 9"/>
          <p:cNvGrpSpPr/>
          <p:nvPr/>
        </p:nvGrpSpPr>
        <p:grpSpPr>
          <a:xfrm>
            <a:off x="2971800" y="304920"/>
            <a:ext cx="3809880" cy="1418760"/>
            <a:chOff x="2971800" y="304920"/>
            <a:chExt cx="3809880" cy="1418760"/>
          </a:xfrm>
        </p:grpSpPr>
        <p:sp>
          <p:nvSpPr>
            <p:cNvPr id="592" name="Text Box 7"/>
            <p:cNvSpPr/>
            <p:nvPr/>
          </p:nvSpPr>
          <p:spPr>
            <a:xfrm>
              <a:off x="2971800" y="1143000"/>
              <a:ext cx="38098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t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setBase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id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ira i postavlj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v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j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ed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ot član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Salary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93" name="Line 8"/>
            <p:cNvSpPr/>
            <p:nvPr/>
          </p:nvSpPr>
          <p:spPr>
            <a:xfrm flipH="1" flipV="1">
              <a:off x="4190400" y="304920"/>
              <a:ext cx="60300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594" name="Group 10"/>
          <p:cNvGrpSpPr/>
          <p:nvPr/>
        </p:nvGrpSpPr>
        <p:grpSpPr>
          <a:xfrm>
            <a:off x="1828800" y="1599840"/>
            <a:ext cx="3809880" cy="1419480"/>
            <a:chOff x="1828800" y="1599840"/>
            <a:chExt cx="3809880" cy="1419480"/>
          </a:xfrm>
        </p:grpSpPr>
        <p:sp>
          <p:nvSpPr>
            <p:cNvPr id="595" name="Text Box 11"/>
            <p:cNvSpPr/>
            <p:nvPr/>
          </p:nvSpPr>
          <p:spPr>
            <a:xfrm>
              <a:off x="1828800" y="2438640"/>
              <a:ext cx="38098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t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getBase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vraća vrijedn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t član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Salary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96" name="Line 12"/>
            <p:cNvSpPr/>
            <p:nvPr/>
          </p:nvSpPr>
          <p:spPr>
            <a:xfrm flipH="1" flipV="1">
              <a:off x="3047400" y="1599840"/>
              <a:ext cx="60300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597" name="Group 13"/>
          <p:cNvGrpSpPr/>
          <p:nvPr/>
        </p:nvGrpSpPr>
        <p:grpSpPr>
          <a:xfrm>
            <a:off x="4038480" y="3200400"/>
            <a:ext cx="4267080" cy="1380600"/>
            <a:chOff x="4038480" y="3200400"/>
            <a:chExt cx="4267080" cy="1380600"/>
          </a:xfrm>
        </p:grpSpPr>
        <p:sp>
          <p:nvSpPr>
            <p:cNvPr id="598" name="Text Box 14"/>
            <p:cNvSpPr/>
            <p:nvPr/>
          </p:nvSpPr>
          <p:spPr>
            <a:xfrm>
              <a:off x="4038480" y="4000320"/>
              <a:ext cx="42670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Promjena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tod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da izračunava zaradu na osnovu osnovne plat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99" name="Line 15"/>
            <p:cNvSpPr/>
            <p:nvPr/>
          </p:nvSpPr>
          <p:spPr>
            <a:xfrm flipH="1" flipV="1">
              <a:off x="5403600" y="3200400"/>
              <a:ext cx="675720" cy="78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00" name="Group 19"/>
          <p:cNvGrpSpPr/>
          <p:nvPr/>
        </p:nvGrpSpPr>
        <p:grpSpPr>
          <a:xfrm>
            <a:off x="3352680" y="5181480"/>
            <a:ext cx="4647600" cy="580680"/>
            <a:chOff x="3352680" y="5181480"/>
            <a:chExt cx="4647600" cy="580680"/>
          </a:xfrm>
        </p:grpSpPr>
        <p:sp>
          <p:nvSpPr>
            <p:cNvPr id="601" name="Text Box 17"/>
            <p:cNvSpPr/>
            <p:nvPr/>
          </p:nvSpPr>
          <p:spPr>
            <a:xfrm>
              <a:off x="5106600" y="5181480"/>
              <a:ext cx="28936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Promjen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tod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to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a prikaz osnovne plat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02" name="Line 18"/>
            <p:cNvSpPr/>
            <p:nvPr/>
          </p:nvSpPr>
          <p:spPr>
            <a:xfrm flipH="1">
              <a:off x="3352680" y="5486400"/>
              <a:ext cx="175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8" dur="1" fill="hold"/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0DB8-E7B1-4F8E-9A48-38C9D56E4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7162560" y="1066320"/>
            <a:ext cx="1981080" cy="186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Test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9-11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6-27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06" name="Object 6"/>
          <p:cNvGraphicFramePr/>
          <p:nvPr/>
        </p:nvGraphicFramePr>
        <p:xfrm>
          <a:off x="0" y="4680"/>
          <a:ext cx="7101000" cy="609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10100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8" name="Group 8"/>
          <p:cNvGrpSpPr/>
          <p:nvPr/>
        </p:nvGrpSpPr>
        <p:grpSpPr>
          <a:xfrm>
            <a:off x="2514600" y="1143000"/>
            <a:ext cx="4876560" cy="838080"/>
            <a:chOff x="2514600" y="1143000"/>
            <a:chExt cx="4876560" cy="838080"/>
          </a:xfrm>
        </p:grpSpPr>
        <p:sp>
          <p:nvSpPr>
            <p:cNvPr id="609" name="Text Box 9"/>
            <p:cNvSpPr/>
            <p:nvPr/>
          </p:nvSpPr>
          <p:spPr>
            <a:xfrm>
              <a:off x="2514600" y="1143000"/>
              <a:ext cx="4876560" cy="33732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Objekat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PlusCommissionEmploye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10" name="Line 10"/>
            <p:cNvSpPr/>
            <p:nvPr/>
          </p:nvSpPr>
          <p:spPr>
            <a:xfrm flipH="1">
              <a:off x="3756960" y="1523880"/>
              <a:ext cx="1147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11" name="Group 11"/>
          <p:cNvGrpSpPr/>
          <p:nvPr/>
        </p:nvGrpSpPr>
        <p:grpSpPr>
          <a:xfrm>
            <a:off x="3352680" y="3200400"/>
            <a:ext cx="4800240" cy="1066680"/>
            <a:chOff x="3352680" y="3200400"/>
            <a:chExt cx="4800240" cy="1066680"/>
          </a:xfrm>
        </p:grpSpPr>
        <p:sp>
          <p:nvSpPr>
            <p:cNvPr id="612" name="Text Box 12"/>
            <p:cNvSpPr/>
            <p:nvPr/>
          </p:nvSpPr>
          <p:spPr>
            <a:xfrm>
              <a:off x="3352680" y="3200400"/>
              <a:ext cx="480024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otreba metod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PluCommissionEmploye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13" name="Line 13"/>
            <p:cNvSpPr/>
            <p:nvPr/>
          </p:nvSpPr>
          <p:spPr>
            <a:xfrm flipH="1">
              <a:off x="4419000" y="380988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2" dur="1" fill="hold"/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8C34-1E1F-46FC-865E-E07F624A6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Test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9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17" name="Object 4"/>
          <p:cNvGraphicFramePr/>
          <p:nvPr/>
        </p:nvGraphicFramePr>
        <p:xfrm>
          <a:off x="0" y="0"/>
          <a:ext cx="7075440" cy="430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754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9" name="Group 9"/>
          <p:cNvGrpSpPr/>
          <p:nvPr/>
        </p:nvGrpSpPr>
        <p:grpSpPr>
          <a:xfrm>
            <a:off x="3429000" y="228240"/>
            <a:ext cx="4419720" cy="809640"/>
            <a:chOff x="3429000" y="228240"/>
            <a:chExt cx="4419720" cy="809640"/>
          </a:xfrm>
        </p:grpSpPr>
        <p:sp>
          <p:nvSpPr>
            <p:cNvPr id="620" name="Text Box 7"/>
            <p:cNvSpPr/>
            <p:nvPr/>
          </p:nvSpPr>
          <p:spPr>
            <a:xfrm>
              <a:off x="3886200" y="457200"/>
              <a:ext cx="396252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otreba metoda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tBaseSalary</a:t>
              </a:r>
              <a:r>
                <a:rPr b="0" lang="en-US" sz="1600" spc="-1" strike="noStrike">
                  <a:solidFill>
                    <a:srgbClr val="275aff"/>
                  </a:solidFill>
                  <a:latin typeface="Arial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lase</a:t>
              </a:r>
              <a:r>
                <a:rPr b="0" lang="en-US" sz="1600" spc="-1" strike="noStrike">
                  <a:solidFill>
                    <a:srgbClr val="275a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Plus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21" name="Line 8"/>
            <p:cNvSpPr/>
            <p:nvPr/>
          </p:nvSpPr>
          <p:spPr>
            <a:xfrm flipH="1" flipV="1">
              <a:off x="3429000" y="228240"/>
              <a:ext cx="2286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22" name="Group 10"/>
          <p:cNvGrpSpPr/>
          <p:nvPr/>
        </p:nvGrpSpPr>
        <p:grpSpPr>
          <a:xfrm>
            <a:off x="3047760" y="1066320"/>
            <a:ext cx="4114800" cy="566280"/>
            <a:chOff x="3047760" y="1066320"/>
            <a:chExt cx="4114800" cy="566280"/>
          </a:xfrm>
        </p:grpSpPr>
        <p:sp>
          <p:nvSpPr>
            <p:cNvPr id="623" name="Text Box 11"/>
            <p:cNvSpPr/>
            <p:nvPr/>
          </p:nvSpPr>
          <p:spPr>
            <a:xfrm>
              <a:off x="3473640" y="1295280"/>
              <a:ext cx="3688920" cy="33732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ksplicitan po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v metod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toString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24" name="Line 12"/>
            <p:cNvSpPr/>
            <p:nvPr/>
          </p:nvSpPr>
          <p:spPr>
            <a:xfrm flipH="1" flipV="1">
              <a:off x="3047760" y="1066320"/>
              <a:ext cx="2127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6" dur="1" fill="hold"/>
                                  <p:tgtEl>
                                    <p:spTgt spid="6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AD82-35F8-4C35-BD2E-534845691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4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8343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a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 and pa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” gdje se kod iz jedne klase kopira i premješta u drugu klasu može dovesti do grešaka raspršenih na više fajlova. Da bi izbjegli dupliciranje koda i moguće greške, koristite nasljeđivanje kada je to moguće a ne kopiranj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96AE-E3F7-4E4B-BF89-7F777AD4A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5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43000" y="2368080"/>
            <a:ext cx="7834320" cy="280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koristite nasljeđivanje, svi zajednički članovi i metodi klasa u hijerarhiji deklarisani su u nadklasi. Promjena ovih zajedničkih svojstava obavalja se na jednom mjestu – u nadklasi. Podklase samo nasljeđuju promje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 nasljeđivanja, morao bi se mijenjati kod u svim fajlovima koji sadrže kopiju promijenjenog kod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BE12-A7B3-4557-A71B-DC841E466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9.4.3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Hijerarhija nasljeđivanja </a:t>
            </a:r>
            <a:r>
              <a:rPr b="1" lang="en-US" sz="2400" spc="-1" strike="noStrike">
                <a:solidFill>
                  <a:srgbClr val="f9a75e"/>
                </a:solidFill>
                <a:latin typeface="Lucida Console"/>
              </a:rPr>
              <a:t>CommissionEmployee-BasePlusCommiionEmployee</a:t>
            </a:r>
            <a:endParaRPr b="1" lang="en-US" sz="24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BasePlusCommissionEmployee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Izvedena iz klase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Ima člana klase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baseSalar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asljeđuje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članov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nstru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r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ije naslijeđe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ED7D-4D87-4EE2-8A59-96958090B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165440" y="1068480"/>
            <a:ext cx="1978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2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4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3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37" name="Object 6"/>
          <p:cNvGraphicFramePr/>
          <p:nvPr/>
        </p:nvGraphicFramePr>
        <p:xfrm>
          <a:off x="0" y="9360"/>
          <a:ext cx="708516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0"/>
                    <a:ext cx="708516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9" name="Group 11"/>
          <p:cNvGrpSpPr/>
          <p:nvPr/>
        </p:nvGrpSpPr>
        <p:grpSpPr>
          <a:xfrm>
            <a:off x="3886200" y="838080"/>
            <a:ext cx="3962520" cy="1114200"/>
            <a:chOff x="3886200" y="838080"/>
            <a:chExt cx="3962520" cy="1114200"/>
          </a:xfrm>
        </p:grpSpPr>
        <p:sp>
          <p:nvSpPr>
            <p:cNvPr id="640" name="Text Box 9"/>
            <p:cNvSpPr/>
            <p:nvPr/>
          </p:nvSpPr>
          <p:spPr>
            <a:xfrm>
              <a:off x="3886200" y="1371600"/>
              <a:ext cx="396252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las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PluCommissionEmploye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je podklasa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mmissionEmploye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41" name="Line 10"/>
            <p:cNvSpPr/>
            <p:nvPr/>
          </p:nvSpPr>
          <p:spPr>
            <a:xfrm flipH="1" flipV="1">
              <a:off x="4419360" y="83808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42" name="Group 12"/>
          <p:cNvGrpSpPr/>
          <p:nvPr/>
        </p:nvGrpSpPr>
        <p:grpSpPr>
          <a:xfrm>
            <a:off x="3733920" y="2895480"/>
            <a:ext cx="3504960" cy="906120"/>
            <a:chOff x="3733920" y="2895480"/>
            <a:chExt cx="3504960" cy="906120"/>
          </a:xfrm>
        </p:grpSpPr>
        <p:sp>
          <p:nvSpPr>
            <p:cNvPr id="643" name="Text Box 13"/>
            <p:cNvSpPr/>
            <p:nvPr/>
          </p:nvSpPr>
          <p:spPr>
            <a:xfrm>
              <a:off x="3733920" y="3464280"/>
              <a:ext cx="3504960" cy="33732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Poziv konstruktora nadklas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44" name="Line 14"/>
            <p:cNvSpPr/>
            <p:nvPr/>
          </p:nvSpPr>
          <p:spPr>
            <a:xfrm flipH="1" flipV="1">
              <a:off x="4205520" y="2895480"/>
              <a:ext cx="1347840" cy="56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0" dur="1" fill="hold"/>
                                  <p:tgtEl>
                                    <p:spTgt spid="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26B2-53EC-401F-809D-80B53D604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2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41-46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48" name="Object 4"/>
          <p:cNvGraphicFramePr/>
          <p:nvPr/>
        </p:nvGraphicFramePr>
        <p:xfrm>
          <a:off x="0" y="0"/>
          <a:ext cx="7048440" cy="56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48440" cy="56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Text Box 7"/>
          <p:cNvSpPr/>
          <p:nvPr/>
        </p:nvSpPr>
        <p:spPr>
          <a:xfrm>
            <a:off x="3200400" y="1295280"/>
            <a:ext cx="5562720" cy="580680"/>
          </a:xfrm>
          <a:prstGeom prst="rect">
            <a:avLst/>
          </a:prstGeom>
          <a:solidFill>
            <a:srgbClr val="f0f5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Kompajler prijavljuje grešku jer su članovi nadklase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ommissionR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rossSal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51" name="Line 8"/>
          <p:cNvSpPr/>
          <p:nvPr/>
        </p:nvSpPr>
        <p:spPr>
          <a:xfrm flipH="1">
            <a:off x="3796920" y="1905120"/>
            <a:ext cx="1536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grpSp>
        <p:nvGrpSpPr>
          <p:cNvPr id="652" name="Group 12"/>
          <p:cNvGrpSpPr/>
          <p:nvPr/>
        </p:nvGrpSpPr>
        <p:grpSpPr>
          <a:xfrm>
            <a:off x="3200400" y="2895480"/>
            <a:ext cx="5562720" cy="1295640"/>
            <a:chOff x="3200400" y="2895480"/>
            <a:chExt cx="5562720" cy="1295640"/>
          </a:xfrm>
        </p:grpSpPr>
        <p:sp>
          <p:nvSpPr>
            <p:cNvPr id="653" name="Text Box 10"/>
            <p:cNvSpPr/>
            <p:nvPr/>
          </p:nvSpPr>
          <p:spPr>
            <a:xfrm>
              <a:off x="3200400" y="2895480"/>
              <a:ext cx="5562720" cy="82404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ompajler prijavljuje grešku jer su članovi nad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fir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la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socialSecurity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gross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mmissionR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rivat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 flipH="1">
              <a:off x="5409720" y="37339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9" dur="1" fill="hold"/>
                                  <p:tgtEl>
                                    <p:spTgt spid="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615F-A8B6-43CA-B905-910896F97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2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r generated errorss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58" name="Object 4"/>
          <p:cNvGraphicFramePr/>
          <p:nvPr/>
        </p:nvGraphicFramePr>
        <p:xfrm>
          <a:off x="0" y="0"/>
          <a:ext cx="7040520" cy="453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4052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D06D-3FEF-4E36-BC34-4A67C2AA6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609120" y="460080"/>
            <a:ext cx="8534520" cy="5559480"/>
          </a:xfrm>
          <a:prstGeom prst="rect">
            <a:avLst/>
          </a:prstGeom>
          <a:solidFill>
            <a:srgbClr val="fff7eb"/>
          </a:solidFill>
          <a:ln w="12600">
            <a:solidFill>
              <a:srgbClr val="f9a75e"/>
            </a:solidFill>
            <a:miter/>
          </a:ln>
        </p:spPr>
        <p:txBody>
          <a:bodyPr lIns="182880" rIns="182880" tIns="91440" bIns="91440" anchor="t">
            <a:normAutofit/>
          </a:bodyPr>
          <a:p>
            <a:pPr marL="798480" indent="0">
              <a:lnSpc>
                <a:spcPct val="8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1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8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  <a:ea typeface="Goudy Sans Medium"/>
              </a:rPr>
              <a:t>9.2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  <a:ea typeface="Goudy Sans Medium"/>
              </a:rPr>
              <a:t> 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  <a:ea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 Sans Medium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dklase i podkalse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classes and Subclasses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8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3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lanovi kl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8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4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dnos između nadklase i podkl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8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	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4.1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ranje i upotreba klase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8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	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4.2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ranje klase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asePlusCommissionEmploye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la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ez upotrebe nasljeđivanj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7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	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4.3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reiranje hijerahije nasljeđivanja za klas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asePlusCommissionEmploy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7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	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4.4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jerahija nasljeđivanj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7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asePlusCommissionEmployee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rimjenom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lanova kl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7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	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4.5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jerahija klas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7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sePlusCommissionEmploye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mjenom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lanova kl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018B-462F-4166-9859-D976BA73D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823104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Arial"/>
              </a:rPr>
              <a:t>Uobičajena programerska gre</a:t>
            </a:r>
            <a:r>
              <a:rPr b="1" lang="en-US" sz="3600" spc="-1" strike="noStrike">
                <a:solidFill>
                  <a:srgbClr val="5ad9b3"/>
                </a:solidFill>
                <a:latin typeface="Times New Roman"/>
                <a:ea typeface="Arial"/>
              </a:rPr>
              <a:t>š</a:t>
            </a: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Arial"/>
              </a:rPr>
              <a:t>ka 9.2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41560" y="1980720"/>
            <a:ext cx="7834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ajler prijavljuje grešku ako konstruktor podklase pozove jednog od konstruktora nadklase a argumenti poziva ne odgovaraju broju i tipu parametara konstruktora nadklase u njegovoj deklaraciji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5794-EF54-439C-B20D-6EF682143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9.4.4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Hijerahija klasa </a:t>
            </a:r>
            <a:r>
              <a:rPr b="1" lang="en-US" sz="2400" spc="-1" strike="noStrike">
                <a:solidFill>
                  <a:srgbClr val="f9a75e"/>
                </a:solidFill>
                <a:latin typeface="Lucida Console"/>
              </a:rPr>
              <a:t>CommissionEmployee-BasePlusCommissionEmployee</a:t>
            </a: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primjenom </a:t>
            </a: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protected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članova klase</a:t>
            </a:r>
            <a:endParaRPr b="1" lang="en-US" sz="24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otreba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članova kla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Omogućava klasi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BasePlusCommissionEmploye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to dire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ktan pristup članovima nadklas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članovi nadklase naslijeđeni su u svim podklasamaa te klas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6866-CC2B-419D-BC74-2112506A8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7165440" y="1068480"/>
            <a:ext cx="1978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mployee2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6-10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0" y="4680"/>
          <a:ext cx="704844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4844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1" name="Group 6"/>
          <p:cNvGrpSpPr/>
          <p:nvPr/>
        </p:nvGrpSpPr>
        <p:grpSpPr>
          <a:xfrm>
            <a:off x="3809880" y="762120"/>
            <a:ext cx="3276720" cy="838080"/>
            <a:chOff x="3809880" y="762120"/>
            <a:chExt cx="3276720" cy="838080"/>
          </a:xfrm>
        </p:grpSpPr>
        <p:sp>
          <p:nvSpPr>
            <p:cNvPr id="672" name="Text Box 7"/>
            <p:cNvSpPr/>
            <p:nvPr/>
          </p:nvSpPr>
          <p:spPr>
            <a:xfrm>
              <a:off x="4964040" y="762120"/>
              <a:ext cx="212256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Deklar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članaova klas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73" name="Line 8"/>
            <p:cNvSpPr/>
            <p:nvPr/>
          </p:nvSpPr>
          <p:spPr>
            <a:xfrm flipH="1">
              <a:off x="3809880" y="914400"/>
              <a:ext cx="1152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8" dur="1" fill="hold"/>
                                  <p:tgtEl>
                                    <p:spTgt spid="6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0F6F-3E4D-4C57-9415-A3D07C562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158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mployee2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77" name="Object 4"/>
          <p:cNvGraphicFramePr/>
          <p:nvPr/>
        </p:nvGraphicFramePr>
        <p:xfrm>
          <a:off x="0" y="0"/>
          <a:ext cx="7056360" cy="648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64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D649-E903-42F1-A815-B52D3B3C3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158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mployee2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82" name="Object 4"/>
          <p:cNvGraphicFramePr/>
          <p:nvPr/>
        </p:nvGraphicFramePr>
        <p:xfrm>
          <a:off x="0" y="0"/>
          <a:ext cx="703908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3908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0567-9217-4F7F-BD2E-2BD3B3C48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158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mployee2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87" name="Object 4"/>
          <p:cNvGraphicFramePr/>
          <p:nvPr/>
        </p:nvGraphicFramePr>
        <p:xfrm>
          <a:off x="0" y="1440"/>
          <a:ext cx="7040520" cy="254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704052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0263-5DC3-47C8-92F4-F49EF0968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141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3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3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92" name="Object 6"/>
          <p:cNvGraphicFramePr/>
          <p:nvPr/>
        </p:nvGraphicFramePr>
        <p:xfrm>
          <a:off x="0" y="9360"/>
          <a:ext cx="7093080" cy="608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0"/>
                    <a:ext cx="709308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4" name="Group 8"/>
          <p:cNvGrpSpPr/>
          <p:nvPr/>
        </p:nvGrpSpPr>
        <p:grpSpPr>
          <a:xfrm>
            <a:off x="4038480" y="1752480"/>
            <a:ext cx="3276720" cy="838080"/>
            <a:chOff x="4038480" y="1752480"/>
            <a:chExt cx="3276720" cy="838080"/>
          </a:xfrm>
        </p:grpSpPr>
        <p:sp>
          <p:nvSpPr>
            <p:cNvPr id="695" name="Text Box 9"/>
            <p:cNvSpPr/>
            <p:nvPr/>
          </p:nvSpPr>
          <p:spPr>
            <a:xfrm>
              <a:off x="5192640" y="1752480"/>
              <a:ext cx="212256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ora se pozvati konstruktor nadklas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96" name="Line 10"/>
            <p:cNvSpPr/>
            <p:nvPr/>
          </p:nvSpPr>
          <p:spPr>
            <a:xfrm flipH="1">
              <a:off x="4038480" y="1904760"/>
              <a:ext cx="1152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7" dur="1" fill="hold"/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23C5-CDAB-43F9-A8A2-931465FB6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165440" y="1068480"/>
            <a:ext cx="1978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3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2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38-43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00" name="Object 4"/>
          <p:cNvGraphicFramePr/>
          <p:nvPr/>
        </p:nvGraphicFramePr>
        <p:xfrm>
          <a:off x="0" y="4680"/>
          <a:ext cx="7039080" cy="404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3908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2" name="Group 10"/>
          <p:cNvGrpSpPr/>
          <p:nvPr/>
        </p:nvGrpSpPr>
        <p:grpSpPr>
          <a:xfrm>
            <a:off x="4800240" y="914400"/>
            <a:ext cx="3505680" cy="1600200"/>
            <a:chOff x="4800240" y="914400"/>
            <a:chExt cx="3505680" cy="1600200"/>
          </a:xfrm>
        </p:grpSpPr>
        <p:sp>
          <p:nvSpPr>
            <p:cNvPr id="703" name="Text Box 7"/>
            <p:cNvSpPr/>
            <p:nvPr/>
          </p:nvSpPr>
          <p:spPr>
            <a:xfrm>
              <a:off x="5943600" y="1447920"/>
              <a:ext cx="2362320" cy="82404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re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tan pristup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članovima nadklas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04" name="Line 8"/>
            <p:cNvSpPr/>
            <p:nvPr/>
          </p:nvSpPr>
          <p:spPr>
            <a:xfrm flipH="1">
              <a:off x="4800240" y="1828800"/>
              <a:ext cx="1152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05" name="Line 9"/>
            <p:cNvSpPr/>
            <p:nvPr/>
          </p:nvSpPr>
          <p:spPr>
            <a:xfrm flipH="1" flipV="1">
              <a:off x="4876560" y="9144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7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2680-1E23-49F8-ADDD-860FF71B5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Test3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09" name="Object 6"/>
          <p:cNvGraphicFramePr/>
          <p:nvPr/>
        </p:nvGraphicFramePr>
        <p:xfrm>
          <a:off x="0" y="6480"/>
          <a:ext cx="7039080" cy="60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703908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EE81-BDB5-4C3B-8507-C82136C3A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141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Test3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14" name="Object 4"/>
          <p:cNvGraphicFramePr/>
          <p:nvPr/>
        </p:nvGraphicFramePr>
        <p:xfrm>
          <a:off x="0" y="6480"/>
          <a:ext cx="7066080" cy="422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70660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2B61-AE4B-4CBB-B744-009B856C4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09120" y="460440"/>
            <a:ext cx="7543800" cy="1528560"/>
          </a:xfrm>
          <a:prstGeom prst="rect">
            <a:avLst/>
          </a:prstGeom>
          <a:solidFill>
            <a:srgbClr val="fff7eb"/>
          </a:solidFill>
          <a:ln w="12600">
            <a:solidFill>
              <a:srgbClr val="f9a75e"/>
            </a:solidFill>
            <a:miter/>
          </a:ln>
        </p:spPr>
        <p:txBody>
          <a:bodyPr lIns="182880" rIns="182880" tIns="91440" bIns="91440" anchor="t">
            <a:normAutofit/>
          </a:bodyPr>
          <a:p>
            <a:pPr marL="798480" indent="0">
              <a:lnSpc>
                <a:spcPct val="9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5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stru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 u podklasa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6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ovanje softvera i nasljeđivan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7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la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8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pcionalno) GU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kaz teksta i slika pomoću labe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E3E4-C42B-40D4-A305-0E8BF3975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9.4.4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Hijerahija klasa </a:t>
            </a:r>
            <a:r>
              <a:rPr b="1" lang="en-US" sz="2400" spc="-1" strike="noStrike">
                <a:solidFill>
                  <a:srgbClr val="f9a75e"/>
                </a:solidFill>
                <a:latin typeface="Lucida Console"/>
              </a:rPr>
              <a:t>CommissionEmployee-BasePlusCommissionEmployee</a:t>
            </a: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primjenom </a:t>
            </a: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protected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članova klase </a:t>
            </a: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(nastavak)</a:t>
            </a:r>
            <a:endParaRPr b="1" lang="en-US" sz="24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potreb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članov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Prednosti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odklase mogu mijenjati vrijednosti direktn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Neznatno poboljšanje performans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Jer se izbjegavaju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t/get metod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Man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Nema provjere validnost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odklasa može dodijeliti pogrešnu vrijednos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Zavisna od 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cij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Metodi podklase su zavisniji od implementacije nadkl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romjene u implementaciji nadklase mogu dovesti do modifikacije podklas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Tzv. “lomljivi softver” (engl. 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gile (brittle) software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8877-7060-4DFD-8D16-9DB36378A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6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141200" y="2034720"/>
            <a:ext cx="7545240" cy="16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oristit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protec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kator pristupa kada nadklasa treba da obezbijedi metod samo podklasama i drugim klasama u paketu, ali ne i drugim klijentim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6ADC-9C48-483A-9723-0E7D458FA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Times New Roman"/>
              </a:rPr>
              <a:t>Projektovanje softvera 9.7 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834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je da je član nad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priv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razliku od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ogućava nam da prilikom implementacije nadklase mijenjamo tog člana klase bez uticaja na implementacije podklas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9CB7-3A41-4A6E-817F-5EE9A1DDA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Times New Roman"/>
              </a:rPr>
              <a:t>Izbjegnite gre</a:t>
            </a:r>
            <a:r>
              <a:rPr b="1" lang="en-US" sz="3600" spc="-1" strike="noStrike">
                <a:solidFill>
                  <a:srgbClr val="5ad9b3"/>
                </a:solidFill>
                <a:latin typeface="Times New Roman"/>
                <a:ea typeface="Times New Roman"/>
              </a:rPr>
              <a:t>š</a:t>
            </a: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Times New Roman"/>
              </a:rPr>
              <a:t>ku 9.1  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834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ada je to moguće, ne uključujt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protec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anove u nadklas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jesto toga, napiši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koji nisu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oji manipulišu sa tim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anom klase. Na taj način osiguravate da će klasa ostati u konzistentnom stanju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99CD-7DDC-41EA-9386-BCC469DB1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9.4.5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Hijerarhija </a:t>
            </a:r>
            <a:r>
              <a:rPr b="1" lang="en-US" sz="2400" spc="-1" strike="noStrike">
                <a:solidFill>
                  <a:srgbClr val="f9a75e"/>
                </a:solidFill>
                <a:latin typeface="Lucida Console"/>
              </a:rPr>
              <a:t>CommissionEmployee-BasePlusCommissionEmployee</a:t>
            </a: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sa </a:t>
            </a: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private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članovima</a:t>
            </a:r>
            <a:endParaRPr b="1" lang="en-US" sz="24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onovo pogledajmo hijerarhij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Sada koristimo najbolji pristup iz prakse projektovanja softver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o članove klase kao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apišem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od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Vrijednost člana klase dobijamo pozivom odgovarajućeg metod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FC11-63E4-479F-8018-1D5062848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mployee3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6-10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34" name="Object 12"/>
          <p:cNvGraphicFramePr/>
          <p:nvPr/>
        </p:nvGraphicFramePr>
        <p:xfrm>
          <a:off x="0" y="7920"/>
          <a:ext cx="704844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704844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6" name="Group 14"/>
          <p:cNvGrpSpPr/>
          <p:nvPr/>
        </p:nvGrpSpPr>
        <p:grpSpPr>
          <a:xfrm>
            <a:off x="3581280" y="762120"/>
            <a:ext cx="3276720" cy="838080"/>
            <a:chOff x="3581280" y="762120"/>
            <a:chExt cx="3276720" cy="838080"/>
          </a:xfrm>
        </p:grpSpPr>
        <p:sp>
          <p:nvSpPr>
            <p:cNvPr id="737" name="Text Box 15"/>
            <p:cNvSpPr/>
            <p:nvPr/>
          </p:nvSpPr>
          <p:spPr>
            <a:xfrm>
              <a:off x="4735440" y="762120"/>
              <a:ext cx="212256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r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acij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članova klas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38" name="Line 16"/>
            <p:cNvSpPr/>
            <p:nvPr/>
          </p:nvSpPr>
          <p:spPr>
            <a:xfrm flipH="1">
              <a:off x="3581280" y="914400"/>
              <a:ext cx="1152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5" dur="1" fill="hold"/>
                                  <p:tgtEl>
                                    <p:spTgt spid="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1DEC-D69D-4800-8FE6-5A096170C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158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mployee3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42" name="Object 4"/>
          <p:cNvGraphicFramePr/>
          <p:nvPr/>
        </p:nvGraphicFramePr>
        <p:xfrm>
          <a:off x="0" y="0"/>
          <a:ext cx="7048440" cy="647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48440" cy="64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E23E-5938-4826-A770-63CE75C5B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158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mployee3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47" name="Object 4"/>
          <p:cNvGraphicFramePr/>
          <p:nvPr/>
        </p:nvGraphicFramePr>
        <p:xfrm>
          <a:off x="0" y="0"/>
          <a:ext cx="7048440" cy="54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4844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2E0D-0940-40BE-8927-1A5D42E68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mployee3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87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94-97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52" name="Object 4"/>
          <p:cNvGraphicFramePr/>
          <p:nvPr/>
        </p:nvGraphicFramePr>
        <p:xfrm>
          <a:off x="0" y="6480"/>
          <a:ext cx="7020000" cy="35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7020000" cy="35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4" name="Group 10"/>
          <p:cNvGrpSpPr/>
          <p:nvPr/>
        </p:nvGrpSpPr>
        <p:grpSpPr>
          <a:xfrm>
            <a:off x="3504960" y="837720"/>
            <a:ext cx="4104000" cy="1296000"/>
            <a:chOff x="3504960" y="837720"/>
            <a:chExt cx="4104000" cy="1296000"/>
          </a:xfrm>
        </p:grpSpPr>
        <p:sp>
          <p:nvSpPr>
            <p:cNvPr id="755" name="Text Box 7"/>
            <p:cNvSpPr/>
            <p:nvPr/>
          </p:nvSpPr>
          <p:spPr>
            <a:xfrm>
              <a:off x="4952880" y="914400"/>
              <a:ext cx="26560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Upotreba metod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da bi dobili vrijednost članov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56" name="Line 8"/>
            <p:cNvSpPr/>
            <p:nvPr/>
          </p:nvSpPr>
          <p:spPr>
            <a:xfrm flipH="1" flipV="1">
              <a:off x="3504960" y="837720"/>
              <a:ext cx="1447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57" name="Line 9"/>
            <p:cNvSpPr/>
            <p:nvPr/>
          </p:nvSpPr>
          <p:spPr>
            <a:xfrm flipH="1">
              <a:off x="4038480" y="121932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4" dur="1" fill="hold"/>
                                  <p:tgtEl>
                                    <p:spTgt spid="7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570C-B7FD-4D8B-8256-FC893BEA2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4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61" name="Object 6"/>
          <p:cNvGraphicFramePr/>
          <p:nvPr/>
        </p:nvGraphicFramePr>
        <p:xfrm>
          <a:off x="0" y="9360"/>
          <a:ext cx="7020000" cy="49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0"/>
                    <a:ext cx="702000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3" name="Group 11"/>
          <p:cNvGrpSpPr/>
          <p:nvPr/>
        </p:nvGrpSpPr>
        <p:grpSpPr>
          <a:xfrm>
            <a:off x="4191120" y="1218960"/>
            <a:ext cx="3504960" cy="809640"/>
            <a:chOff x="4191120" y="1218960"/>
            <a:chExt cx="3504960" cy="809640"/>
          </a:xfrm>
        </p:grpSpPr>
        <p:sp>
          <p:nvSpPr>
            <p:cNvPr id="764" name="Text Box 9"/>
            <p:cNvSpPr/>
            <p:nvPr/>
          </p:nvSpPr>
          <p:spPr>
            <a:xfrm>
              <a:off x="5040360" y="1447920"/>
              <a:ext cx="265572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Izvedena iz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mmissionEmployee3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65" name="Line 10"/>
            <p:cNvSpPr/>
            <p:nvPr/>
          </p:nvSpPr>
          <p:spPr>
            <a:xfrm flipH="1" flipV="1">
              <a:off x="4191120" y="1218960"/>
              <a:ext cx="8380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3" dur="1" fill="hold"/>
                                  <p:tgtEl>
                                    <p:spTgt spid="7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F522-A3BB-4536-B580-E1E1A895E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9.1 Uvod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sleđivanje (engl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Omogućava ponovnu upotrebu softvera (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ftware reusability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Kreiranje novih klasa iz postojećih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sorbuje podatke i ponašanje postojećih klas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Unapređuje ih novim sposobnostim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Podklasa proširuje nadklas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(subclas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tends superclass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odklas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Više specijalizovana grupa objeka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onašanje nasljeđuje od nad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li ga može promijenit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ilagodit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ože imati i dodatno ponašanje (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ditional behaviors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6854-4DD2-4A45-AFCE-269AC6DFB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4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3 &amp; 40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40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69" name="Object 4"/>
          <p:cNvGraphicFramePr/>
          <p:nvPr/>
        </p:nvGraphicFramePr>
        <p:xfrm>
          <a:off x="0" y="4680"/>
          <a:ext cx="7085160" cy="417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851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1" name="Group 10"/>
          <p:cNvGrpSpPr/>
          <p:nvPr/>
        </p:nvGrpSpPr>
        <p:grpSpPr>
          <a:xfrm>
            <a:off x="2666520" y="2057400"/>
            <a:ext cx="5628240" cy="1371600"/>
            <a:chOff x="2666520" y="2057400"/>
            <a:chExt cx="5628240" cy="1371600"/>
          </a:xfrm>
        </p:grpSpPr>
        <p:sp>
          <p:nvSpPr>
            <p:cNvPr id="772" name="Text Box 7"/>
            <p:cNvSpPr/>
            <p:nvPr/>
          </p:nvSpPr>
          <p:spPr>
            <a:xfrm>
              <a:off x="5638680" y="2209680"/>
              <a:ext cx="26560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Upotreba metoda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a pristup članovima klas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73" name="Line 8"/>
            <p:cNvSpPr/>
            <p:nvPr/>
          </p:nvSpPr>
          <p:spPr>
            <a:xfrm flipH="1" flipV="1">
              <a:off x="2666520" y="2057400"/>
              <a:ext cx="2971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74" name="Line 9"/>
            <p:cNvSpPr/>
            <p:nvPr/>
          </p:nvSpPr>
          <p:spPr>
            <a:xfrm flipH="1">
              <a:off x="5105160" y="2514600"/>
              <a:ext cx="5331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775" name="Group 11"/>
          <p:cNvGrpSpPr/>
          <p:nvPr/>
        </p:nvGrpSpPr>
        <p:grpSpPr>
          <a:xfrm>
            <a:off x="4343040" y="1066680"/>
            <a:ext cx="4495680" cy="838080"/>
            <a:chOff x="4343040" y="1066680"/>
            <a:chExt cx="4495680" cy="838080"/>
          </a:xfrm>
        </p:grpSpPr>
        <p:sp>
          <p:nvSpPr>
            <p:cNvPr id="776" name="Text Box 12"/>
            <p:cNvSpPr/>
            <p:nvPr/>
          </p:nvSpPr>
          <p:spPr>
            <a:xfrm>
              <a:off x="5926680" y="1066680"/>
              <a:ext cx="291204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Poziv metoda iz nadklase, jer je redefinisan u podklasi 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77" name="Line 13"/>
            <p:cNvSpPr/>
            <p:nvPr/>
          </p:nvSpPr>
          <p:spPr>
            <a:xfrm flipH="1">
              <a:off x="4343040" y="1218960"/>
              <a:ext cx="1581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778" name="Text Box 15"/>
          <p:cNvSpPr/>
          <p:nvPr/>
        </p:nvSpPr>
        <p:spPr>
          <a:xfrm>
            <a:off x="4495680" y="3733920"/>
            <a:ext cx="2911680" cy="580680"/>
          </a:xfrm>
          <a:prstGeom prst="rect">
            <a:avLst/>
          </a:prstGeom>
          <a:solidFill>
            <a:srgbClr val="f0f5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Poziv metoda iz nadklase, jer je predefinisan u podklasi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79" name="Line 16"/>
          <p:cNvSpPr/>
          <p:nvPr/>
        </p:nvSpPr>
        <p:spPr>
          <a:xfrm flipH="1" flipV="1">
            <a:off x="2437920" y="3429000"/>
            <a:ext cx="2057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7" dur="1" fill="hold"/>
                                  <p:tgtEl>
                                    <p:spTgt spid="7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2011-CC81-4EC9-8B25-A4E3F2288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Times New Roman"/>
              </a:rPr>
              <a:t>Uobičajena programerska gre</a:t>
            </a:r>
            <a:r>
              <a:rPr b="1" lang="en-US" sz="3600" spc="-1" strike="noStrike">
                <a:solidFill>
                  <a:srgbClr val="5ad9b3"/>
                </a:solidFill>
                <a:latin typeface="Times New Roman"/>
                <a:ea typeface="Times New Roman"/>
              </a:rPr>
              <a:t>š</a:t>
            </a: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Times New Roman"/>
              </a:rPr>
              <a:t>ka 9.3 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83432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ada je metod iz nadklase redefinisan u podkalsi, često verzija iz podklase poziva verziju iz nadklase da obavi dio posla. Ako zaboravite da napišete ključnu riječ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sup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imbol tačk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pred imena metoda, doći će do greške koja se zove beskonačna rekurzija. Pravilna upotreba rekurzije biće prikazana u lekciji 15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ABDD-B42C-4617-9225-ED1687C0C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162560" y="1066320"/>
            <a:ext cx="1981080" cy="186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Test4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9-11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6-25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86" name="Object 6"/>
          <p:cNvGraphicFramePr/>
          <p:nvPr/>
        </p:nvGraphicFramePr>
        <p:xfrm>
          <a:off x="0" y="4680"/>
          <a:ext cx="7037280" cy="60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37280" cy="60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8" name="Group 19"/>
          <p:cNvGrpSpPr/>
          <p:nvPr/>
        </p:nvGrpSpPr>
        <p:grpSpPr>
          <a:xfrm>
            <a:off x="3809520" y="1143000"/>
            <a:ext cx="4800960" cy="838080"/>
            <a:chOff x="3809520" y="1143000"/>
            <a:chExt cx="4800960" cy="838080"/>
          </a:xfrm>
        </p:grpSpPr>
        <p:sp>
          <p:nvSpPr>
            <p:cNvPr id="789" name="Text Box 9"/>
            <p:cNvSpPr/>
            <p:nvPr/>
          </p:nvSpPr>
          <p:spPr>
            <a:xfrm>
              <a:off x="5499000" y="1143000"/>
              <a:ext cx="3111480" cy="55044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reiranje objekta kl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Lucida Console"/>
                </a:rPr>
                <a:t>BasePlusCommissionEmployee4</a:t>
              </a:r>
              <a:endParaRPr b="0" lang="en-US" sz="14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90" name="Line 10"/>
            <p:cNvSpPr/>
            <p:nvPr/>
          </p:nvSpPr>
          <p:spPr>
            <a:xfrm flipH="1">
              <a:off x="3809520" y="1600200"/>
              <a:ext cx="1676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791" name="Group 18"/>
          <p:cNvGrpSpPr/>
          <p:nvPr/>
        </p:nvGrpSpPr>
        <p:grpSpPr>
          <a:xfrm>
            <a:off x="3276720" y="3429000"/>
            <a:ext cx="5257800" cy="1752480"/>
            <a:chOff x="3276720" y="3429000"/>
            <a:chExt cx="5257800" cy="1752480"/>
          </a:xfrm>
        </p:grpSpPr>
        <p:sp>
          <p:nvSpPr>
            <p:cNvPr id="792" name="Text Box 12"/>
            <p:cNvSpPr/>
            <p:nvPr/>
          </p:nvSpPr>
          <p:spPr>
            <a:xfrm>
              <a:off x="5867280" y="3809880"/>
              <a:ext cx="2667240" cy="82404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orist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naslijeđene metod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a pristup naslijeđenim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članovim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93" name="Line 13"/>
            <p:cNvSpPr/>
            <p:nvPr/>
          </p:nvSpPr>
          <p:spPr>
            <a:xfrm flipH="1">
              <a:off x="4266720" y="4267080"/>
              <a:ext cx="1600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94" name="Line 14"/>
            <p:cNvSpPr/>
            <p:nvPr/>
          </p:nvSpPr>
          <p:spPr>
            <a:xfrm flipH="1" flipV="1">
              <a:off x="3352320" y="3429000"/>
              <a:ext cx="2514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95" name="Line 15"/>
            <p:cNvSpPr/>
            <p:nvPr/>
          </p:nvSpPr>
          <p:spPr>
            <a:xfrm flipH="1" flipV="1">
              <a:off x="3276720" y="3886200"/>
              <a:ext cx="2590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96" name="Line 16"/>
            <p:cNvSpPr/>
            <p:nvPr/>
          </p:nvSpPr>
          <p:spPr>
            <a:xfrm flipH="1">
              <a:off x="3428640" y="4267080"/>
              <a:ext cx="2438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97" name="Line 17"/>
            <p:cNvSpPr/>
            <p:nvPr/>
          </p:nvSpPr>
          <p:spPr>
            <a:xfrm flipH="1">
              <a:off x="3733920" y="4267080"/>
              <a:ext cx="21333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798" name="Group 23"/>
          <p:cNvGrpSpPr/>
          <p:nvPr/>
        </p:nvGrpSpPr>
        <p:grpSpPr>
          <a:xfrm>
            <a:off x="3352320" y="5257800"/>
            <a:ext cx="5258160" cy="824040"/>
            <a:chOff x="3352320" y="5257800"/>
            <a:chExt cx="5258160" cy="824040"/>
          </a:xfrm>
        </p:grpSpPr>
        <p:sp>
          <p:nvSpPr>
            <p:cNvPr id="799" name="Text Box 21"/>
            <p:cNvSpPr/>
            <p:nvPr/>
          </p:nvSpPr>
          <p:spPr>
            <a:xfrm>
              <a:off x="4572000" y="5257800"/>
              <a:ext cx="4038480" cy="82404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oristi metod </a:t>
              </a:r>
              <a:r>
                <a:rPr b="0" i="1" lang="sr-Latn-C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 iz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Lucida Console"/>
                </a:rPr>
                <a:t>BasePlusCommissionEmploye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a pristup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članovima kl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00" name="Line 22"/>
            <p:cNvSpPr/>
            <p:nvPr/>
          </p:nvSpPr>
          <p:spPr>
            <a:xfrm flipH="1">
              <a:off x="3352320" y="55627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6" dur="1" fill="hold"/>
                                  <p:tgtEl>
                                    <p:spTgt spid="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A8EF-1061-4C37-A99D-D9E7A60CF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Test4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04" name="Object 4"/>
          <p:cNvGraphicFramePr/>
          <p:nvPr/>
        </p:nvGraphicFramePr>
        <p:xfrm>
          <a:off x="0" y="4680"/>
          <a:ext cx="7037280" cy="422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37280" cy="42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6" name="Group 9"/>
          <p:cNvGrpSpPr/>
          <p:nvPr/>
        </p:nvGrpSpPr>
        <p:grpSpPr>
          <a:xfrm>
            <a:off x="2895120" y="228240"/>
            <a:ext cx="6020280" cy="1087920"/>
            <a:chOff x="2895120" y="228240"/>
            <a:chExt cx="6020280" cy="1087920"/>
          </a:xfrm>
        </p:grpSpPr>
        <p:sp>
          <p:nvSpPr>
            <p:cNvPr id="807" name="Text Box 7"/>
            <p:cNvSpPr/>
            <p:nvPr/>
          </p:nvSpPr>
          <p:spPr>
            <a:xfrm>
              <a:off x="4191120" y="492120"/>
              <a:ext cx="4724280" cy="82404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oristi metod </a:t>
              </a:r>
              <a:r>
                <a:rPr b="0" i="1" lang="sr-Latn-CS" sz="1600" spc="-1" strike="noStrike">
                  <a:solidFill>
                    <a:srgbClr val="000000"/>
                  </a:solidFill>
                  <a:latin typeface="Times New Roman"/>
                </a:rPr>
                <a:t>set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 iz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PlusCommissionEmploye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a izmjene</a:t>
              </a:r>
              <a:r>
                <a:rPr b="0" i="1" lang="sr-Latn-C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člana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08" name="Line 8"/>
            <p:cNvSpPr/>
            <p:nvPr/>
          </p:nvSpPr>
          <p:spPr>
            <a:xfrm flipH="1" flipV="1">
              <a:off x="2895120" y="228240"/>
              <a:ext cx="1295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5" dur="1" fill="hold"/>
                                  <p:tgtEl>
                                    <p:spTgt spid="8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2F60-C063-45A7-BD62-ED6682753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9.5 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onstru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tor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i u podklasama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reiranje objekata podk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iz poziva konstruktorim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Konstruktor podklase poziva konstruktora nadkl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icit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no i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icit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Osnova hijerahije nasljeđivanj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osljednji konstruktor u lancu poziva je onaj iz klase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bjec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Tijelo konstruktora originalne podklase izvršava se posljednj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hijerarhija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missionEmployee3-BasePlusCommissionEmployee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Lucida Conso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missionEmployee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stru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r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je pozvan pretposljednj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osljednji je konstruktor klase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Lucida Conso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missionEmployee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tijelo konstruktota završava izvršavanje kao drug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rvo je tijelo konstrukora kl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1875-4B6B-4D31-91F1-0FEB218DB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Times New Roman"/>
              </a:rPr>
              <a:t>Projektovanje softvera 9.8 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834320" cy="32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ada program kreira objekat podklase, konstruktor podklase automataki poziva konstruktor nadklase (eksplicitno pomoću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supe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Lucida Consol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plicit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jelo konstruktora nadklase incijalizuje članove koji si dijelovi objekta podklase. Zatim tijelo konstruktora podklase inicijalizuje samo svoje članove. (nastavak na sljedećem slajd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4FFC-90F3-4A03-839C-908DB1B28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Times New Roman"/>
              </a:rPr>
              <a:t>Projektovanje softvera 9.8 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41560" y="1828440"/>
            <a:ext cx="7834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gurava da čak i kada konstruktor ne dodijeli vrijednost članu klase, on se inicijalizuje na podrazumijevanu vrijedn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LucidaSansTypewriter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0519-5ABC-4FE2-A6DF-F834722BC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141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4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23-24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21" name="Object 6"/>
          <p:cNvGraphicFramePr/>
          <p:nvPr/>
        </p:nvGraphicFramePr>
        <p:xfrm>
          <a:off x="0" y="11160"/>
          <a:ext cx="7056360" cy="56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160"/>
                    <a:ext cx="705636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3" name="Group 8"/>
          <p:cNvGrpSpPr/>
          <p:nvPr/>
        </p:nvGrpSpPr>
        <p:grpSpPr>
          <a:xfrm>
            <a:off x="2437920" y="3886200"/>
            <a:ext cx="4648320" cy="838080"/>
            <a:chOff x="2437920" y="3886200"/>
            <a:chExt cx="4648320" cy="838080"/>
          </a:xfrm>
        </p:grpSpPr>
        <p:sp>
          <p:nvSpPr>
            <p:cNvPr id="824" name="Text Box 9"/>
            <p:cNvSpPr/>
            <p:nvPr/>
          </p:nvSpPr>
          <p:spPr>
            <a:xfrm>
              <a:off x="4073760" y="3886200"/>
              <a:ext cx="30124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stru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 prikazuje poruku da bi demonstrirao redosljed poziv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25" name="Line 10"/>
            <p:cNvSpPr/>
            <p:nvPr/>
          </p:nvSpPr>
          <p:spPr>
            <a:xfrm flipH="1">
              <a:off x="2437920" y="4343400"/>
              <a:ext cx="1623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4" dur="1" fill="hold"/>
                                  <p:tgtEl>
                                    <p:spTgt spid="8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F2A7-509D-41AA-878A-FBFF9E2F7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4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29" name="Object 4"/>
          <p:cNvGraphicFramePr/>
          <p:nvPr/>
        </p:nvGraphicFramePr>
        <p:xfrm>
          <a:off x="0" y="0"/>
          <a:ext cx="702936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2936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6058-77A2-44E1-A4BA-E75B40BF7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4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34" name="Object 4"/>
          <p:cNvGraphicFramePr/>
          <p:nvPr/>
        </p:nvGraphicFramePr>
        <p:xfrm>
          <a:off x="0" y="0"/>
          <a:ext cx="7039080" cy="52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3908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3B42-B0A8-4A07-81C5-CAB6A47D0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9.1 Uvod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(nastavak)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Hijerahija klasa (engl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 hierarchy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ire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a nadklas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asljeđivanje je eksplicitn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jedan nivo iznad u hijerahij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dire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a nadklas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superclas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va ili više nivoa u hijerahij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Jednostruko nasljeđivanje (engl. 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gle inheritance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asljeđuje se direktno od samo jedne nad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Višestruko nasljeđivanje (engl. 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ltiple inheritance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asljeđuje se direktno od više nadklas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e podržava višestruko nasljeđivanj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2502-1AA7-4414-9E43-EEE036F7D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4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39" name="Object 4"/>
          <p:cNvGraphicFramePr/>
          <p:nvPr/>
        </p:nvGraphicFramePr>
        <p:xfrm>
          <a:off x="0" y="0"/>
          <a:ext cx="7085160" cy="483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8516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4DC5-F290-45CD-AF92-13CA5AC34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141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5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5-16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44" name="Object 6"/>
          <p:cNvGraphicFramePr/>
          <p:nvPr/>
        </p:nvGraphicFramePr>
        <p:xfrm>
          <a:off x="0" y="4680"/>
          <a:ext cx="7085160" cy="52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8516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6" name="Group 8"/>
          <p:cNvGrpSpPr/>
          <p:nvPr/>
        </p:nvGrpSpPr>
        <p:grpSpPr>
          <a:xfrm>
            <a:off x="2514240" y="2209680"/>
            <a:ext cx="4572000" cy="838080"/>
            <a:chOff x="2514240" y="2209680"/>
            <a:chExt cx="4572000" cy="838080"/>
          </a:xfrm>
        </p:grpSpPr>
        <p:sp>
          <p:nvSpPr>
            <p:cNvPr id="847" name="Text Box 9"/>
            <p:cNvSpPr/>
            <p:nvPr/>
          </p:nvSpPr>
          <p:spPr>
            <a:xfrm>
              <a:off x="4123080" y="2209680"/>
              <a:ext cx="296316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stru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 prikazuje poruku da bi demonstrirao redosljed poziv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48" name="Line 10"/>
            <p:cNvSpPr/>
            <p:nvPr/>
          </p:nvSpPr>
          <p:spPr>
            <a:xfrm flipH="1">
              <a:off x="2514240" y="2666880"/>
              <a:ext cx="1596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3" dur="1" fill="hold"/>
                                  <p:tgtEl>
                                    <p:spTgt spid="8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5D65-BD17-480E-9CCE-E79D419B2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5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52" name="Object 4"/>
          <p:cNvGraphicFramePr/>
          <p:nvPr/>
        </p:nvGraphicFramePr>
        <p:xfrm>
          <a:off x="0" y="0"/>
          <a:ext cx="7075440" cy="41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7544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A868-07E1-4520-AEE4-5F10DB139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7165440" y="1068480"/>
            <a:ext cx="1978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structorTest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8-9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2-19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57" name="Object 6"/>
          <p:cNvGraphicFramePr/>
          <p:nvPr/>
        </p:nvGraphicFramePr>
        <p:xfrm>
          <a:off x="0" y="1440"/>
          <a:ext cx="7093080" cy="46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709308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9" name="Group 15"/>
          <p:cNvGrpSpPr/>
          <p:nvPr/>
        </p:nvGrpSpPr>
        <p:grpSpPr>
          <a:xfrm>
            <a:off x="4267080" y="2362320"/>
            <a:ext cx="4577040" cy="1067400"/>
            <a:chOff x="4267080" y="2362320"/>
            <a:chExt cx="4577040" cy="1067400"/>
          </a:xfrm>
        </p:grpSpPr>
        <p:sp>
          <p:nvSpPr>
            <p:cNvPr id="860" name="Text Box 9"/>
            <p:cNvSpPr/>
            <p:nvPr/>
          </p:nvSpPr>
          <p:spPr>
            <a:xfrm>
              <a:off x="5334120" y="2362320"/>
              <a:ext cx="3510000" cy="106740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Dva objekta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PlusCommissionEmploye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da bi pokazali redosljed poziva konstruktora podklase i nadkl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61" name="Line 10"/>
            <p:cNvSpPr/>
            <p:nvPr/>
          </p:nvSpPr>
          <p:spPr>
            <a:xfrm flipH="1" flipV="1">
              <a:off x="4267080" y="2438280"/>
              <a:ext cx="1067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62" name="Line 11"/>
            <p:cNvSpPr/>
            <p:nvPr/>
          </p:nvSpPr>
          <p:spPr>
            <a:xfrm flipH="1">
              <a:off x="4267080" y="2895480"/>
              <a:ext cx="106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63" name="Group 12"/>
          <p:cNvGrpSpPr/>
          <p:nvPr/>
        </p:nvGrpSpPr>
        <p:grpSpPr>
          <a:xfrm>
            <a:off x="3200400" y="685800"/>
            <a:ext cx="4800240" cy="838080"/>
            <a:chOff x="3200400" y="685800"/>
            <a:chExt cx="4800240" cy="838080"/>
          </a:xfrm>
        </p:grpSpPr>
        <p:sp>
          <p:nvSpPr>
            <p:cNvPr id="864" name="Text Box 13"/>
            <p:cNvSpPr/>
            <p:nvPr/>
          </p:nvSpPr>
          <p:spPr>
            <a:xfrm>
              <a:off x="4889520" y="685800"/>
              <a:ext cx="311112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Objekta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mmissionEmployee4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65" name="Line 14"/>
            <p:cNvSpPr/>
            <p:nvPr/>
          </p:nvSpPr>
          <p:spPr>
            <a:xfrm flipH="1">
              <a:off x="3200400" y="838080"/>
              <a:ext cx="1689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2C7E-E38E-41AE-8687-6FD26D918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7165440" y="1068120"/>
            <a:ext cx="1978200" cy="158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structorTest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69" name="Object 4"/>
          <p:cNvGraphicFramePr/>
          <p:nvPr/>
        </p:nvGraphicFramePr>
        <p:xfrm>
          <a:off x="0" y="0"/>
          <a:ext cx="7039080" cy="526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3908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1" name="Group 10"/>
          <p:cNvGrpSpPr/>
          <p:nvPr/>
        </p:nvGrpSpPr>
        <p:grpSpPr>
          <a:xfrm>
            <a:off x="3504960" y="2057040"/>
            <a:ext cx="4800960" cy="2057760"/>
            <a:chOff x="3504960" y="2057040"/>
            <a:chExt cx="4800960" cy="2057760"/>
          </a:xfrm>
        </p:grpSpPr>
        <p:sp>
          <p:nvSpPr>
            <p:cNvPr id="872" name="Text Box 7"/>
            <p:cNvSpPr/>
            <p:nvPr/>
          </p:nvSpPr>
          <p:spPr>
            <a:xfrm>
              <a:off x="4648320" y="2514600"/>
              <a:ext cx="3657600" cy="106740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onstruktor pod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PlusCommissionEmploye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izvršava se poslije konstruktora nad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mmissionEmploye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73" name="Line 8"/>
            <p:cNvSpPr/>
            <p:nvPr/>
          </p:nvSpPr>
          <p:spPr>
            <a:xfrm flipH="1" flipV="1">
              <a:off x="3581280" y="2057040"/>
              <a:ext cx="10670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74" name="Line 9"/>
            <p:cNvSpPr/>
            <p:nvPr/>
          </p:nvSpPr>
          <p:spPr>
            <a:xfrm flipH="1">
              <a:off x="3504960" y="3124080"/>
              <a:ext cx="1143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6" dur="1" fill="hold"/>
                                  <p:tgtEl>
                                    <p:spTgt spid="8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2EFC-6613-47BF-AE48-F9684129F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75e"/>
                </a:solidFill>
                <a:latin typeface="Arial"/>
              </a:rPr>
              <a:t>9.6 </a:t>
            </a:r>
            <a:r>
              <a:rPr b="1" lang="sr-Latn-CS" sz="3200" spc="-1" strike="noStrike">
                <a:solidFill>
                  <a:srgbClr val="f9a75e"/>
                </a:solidFill>
                <a:latin typeface="Arial"/>
              </a:rPr>
              <a:t>Projektovanje softvera i nasljeđivanje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lagođavanje postojećeg softver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asljeđivanje iz postojećih klas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Uključivanje dodatnih članov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efin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sanje članova iz nad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ema direktnog pristupa izvornom kodu nad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Veza sa objektnim kod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ezavisni proizvođači softver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Razvijaju kod za prodaju ili licenc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ostupan je formatu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objektanog kod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orisni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zvodie nove 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Bez pristupa izvornom kodu proizvođač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4B70-C6AC-414F-99ED-97DD9F6C0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9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141560" y="1828440"/>
            <a:ext cx="7834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rkos činjenici da nasljeđivanje klase ne zahtijeva i pristup izvornom kodu klase, programeri često insistiraju da vide i izvorni kod klase, da bi razumjeli kako je implementirana. Na taj se način osiguravaju da nasljeđuju iz klase koja je dobra – npr. da je implementirana sigurno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12D3-208A-4CB0-B415-857DB9714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10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141200" y="1828800"/>
            <a:ext cx="754524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 fazi dizajna objektno-orijentisanog sistema, često se vidi da su određene klase tijesno povezane (veoma slične). Tada se može uraditi faktorisanje  (engl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factor out”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tj. izvlačenje zajedničkih članova i metoda tih klasa u zajedničku nadklasu. Kada se to uradi, koristimo nasljeđivanje da razvijemo podklase koje se specijalizuju za neka nova svojstva osim onih koja su naslijedila od nadklas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8DA5-5648-4ED1-94B8-D49E85342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11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8343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je podklase ne utiče na izvorni kod nadkla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ljeđivanje čuva integritet nadkals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71EF-129D-4B91-A9C0-E5C14A7AA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12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141560" y="1802880"/>
            <a:ext cx="7834320" cy="39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ao što dizajner neobjektnih sistema treba da izbjegavaju prekomjerni rast broja modula, i OO dizajneri treba da izbjegavaju prekomjerni rast broja klasa. Veliki broj klasa može stvoriti probleme u upravljanju i nanose štetu ponovnoj upotrebi softvera. U velikim bibliotekama korisniku je teško pronaći željenu klasu. Alternativa je da kreirate manje klasa koje imaju više funkcionalnosti, ali takve klase mogu biti zamorn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B533-9DEA-4C79-AA43-7E7DBFF3F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9.2 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Nadklase i podklase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adklase i podk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bj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ekat jedne klase “je” (“is a”) i objekat druge klas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ravougaonik (rectangle) j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četvorougao (quadrilateral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ctang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nasljeđuje klasu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Quadrilater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Quadrilatera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nadklasa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ctang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odklasa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adklasa tipično predstavlja veći skup objekata nego što ga predstavlja podklas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nadklas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Automobili (cars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kamioni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ucks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brodovi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oats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bicikl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cycles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odklas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ar</a:t>
            </a:r>
            <a:r>
              <a:rPr b="1" lang="sr-Latn-CS" sz="1800" spc="-1" strike="noStrike">
                <a:solidFill>
                  <a:srgbClr val="000000"/>
                </a:solidFill>
                <a:latin typeface="Lucida Console"/>
              </a:rPr>
              <a:t> - automobil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Manji i specifičniji skup vozi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FD74-072E-4CD0-8843-DA9F3CA7C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Arial"/>
              </a:rPr>
              <a:t>Performance Tip 9.1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834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ko je podklasa veća nego što bi trebala da bude (tj. ima previše fukcionalnosti), može doći do utroška memorije i procesorskog vremena. Kada izvodite klasu napravite ja tako da ima tačno onoliko funkcionalnosti koliko vam treb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C294-9B66-4BD3-AA7C-8309F2A33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9.7 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Klasa</a:t>
            </a: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9a75e"/>
                </a:solidFill>
                <a:latin typeface="Lucida Console"/>
              </a:rPr>
              <a:t>Object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etodi kla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Objec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clon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equal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finaliz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etClas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hashCod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notif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notifyAl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wai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toString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E9D8-1134-4B79-9EF9-BD47EE9BA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 9.18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tod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Obje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ji se nasljeđuju u svim klasama (dio 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Object 5"/>
          <p:cNvGraphicFramePr/>
          <p:nvPr/>
        </p:nvGraphicFramePr>
        <p:xfrm>
          <a:off x="463680" y="1521000"/>
          <a:ext cx="8029440" cy="361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521000"/>
                    <a:ext cx="802944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99AF-4B2C-446E-A0C9-DC3331DC4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 9.18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tod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Obje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ji se nasljeđuju u svim klasama (dio 2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Object 10"/>
          <p:cNvGraphicFramePr/>
          <p:nvPr/>
        </p:nvGraphicFramePr>
        <p:xfrm>
          <a:off x="1550880" y="241200"/>
          <a:ext cx="5040360" cy="52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0880" y="241200"/>
                    <a:ext cx="5040360" cy="52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CC2E-D848-420C-83FD-C65BBC74D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 9.18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tod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Obje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ji se nasljeđuju u svim klasama (dio 3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Object 4"/>
          <p:cNvGraphicFramePr/>
          <p:nvPr/>
        </p:nvGraphicFramePr>
        <p:xfrm>
          <a:off x="1074600" y="536400"/>
          <a:ext cx="6651720" cy="47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536400"/>
                    <a:ext cx="665172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874D-D87D-4732-BA16-DAF18C86C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 9.18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tod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Obje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ji se nasljeđuju u svim klasama (dio 4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0" name="Object 4"/>
          <p:cNvGraphicFramePr/>
          <p:nvPr/>
        </p:nvGraphicFramePr>
        <p:xfrm>
          <a:off x="1073160" y="457200"/>
          <a:ext cx="6300720" cy="48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457200"/>
                    <a:ext cx="630072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513E-A398-4BB8-9EBF-53BA42EF0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a75e"/>
                </a:solidFill>
                <a:latin typeface="Arial"/>
              </a:rPr>
              <a:t>9.8 (Opcionalno) GUI: </a:t>
            </a:r>
            <a:r>
              <a:rPr b="1" lang="sr-Latn-CS" sz="2800" spc="-1" strike="noStrike">
                <a:solidFill>
                  <a:srgbClr val="f9a75e"/>
                </a:solidFill>
                <a:latin typeface="Arial"/>
              </a:rPr>
              <a:t>prikaz teksta i slika primjenom labela</a:t>
            </a:r>
            <a:endParaRPr b="1" lang="en-US" sz="28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Prikazuj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informa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cije i instrukcij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JLab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ikaz jedne linije teks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ikaz slik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ikaz slike i teks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39B9-CAA6-4AED-9446-9548FB5C2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7165800" y="1066320"/>
            <a:ext cx="1673280" cy="25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abelDemo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3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6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9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5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918" name="Object 6"/>
          <p:cNvGraphicFramePr/>
          <p:nvPr/>
        </p:nvGraphicFramePr>
        <p:xfrm>
          <a:off x="0" y="0"/>
          <a:ext cx="710244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10244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0" name="Group 11"/>
          <p:cNvGrpSpPr/>
          <p:nvPr/>
        </p:nvGrpSpPr>
        <p:grpSpPr>
          <a:xfrm>
            <a:off x="3428640" y="4343400"/>
            <a:ext cx="3048120" cy="762120"/>
            <a:chOff x="3428640" y="4343400"/>
            <a:chExt cx="3048120" cy="762120"/>
          </a:xfrm>
        </p:grpSpPr>
        <p:sp>
          <p:nvSpPr>
            <p:cNvPr id="921" name="Text Box 9"/>
            <p:cNvSpPr/>
            <p:nvPr/>
          </p:nvSpPr>
          <p:spPr>
            <a:xfrm>
              <a:off x="4241520" y="4343400"/>
              <a:ext cx="223524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Promjena teksta 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outhLabel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922" name="Line 10"/>
            <p:cNvSpPr/>
            <p:nvPr/>
          </p:nvSpPr>
          <p:spPr>
            <a:xfrm flipH="1">
              <a:off x="3428640" y="4648320"/>
              <a:ext cx="812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923" name="Group 16"/>
          <p:cNvGrpSpPr/>
          <p:nvPr/>
        </p:nvGrpSpPr>
        <p:grpSpPr>
          <a:xfrm>
            <a:off x="5181480" y="2514600"/>
            <a:ext cx="3429000" cy="824040"/>
            <a:chOff x="5181480" y="2514600"/>
            <a:chExt cx="3429000" cy="824040"/>
          </a:xfrm>
        </p:grpSpPr>
        <p:sp>
          <p:nvSpPr>
            <p:cNvPr id="924" name="Text Box 14"/>
            <p:cNvSpPr/>
            <p:nvPr/>
          </p:nvSpPr>
          <p:spPr>
            <a:xfrm>
              <a:off x="6095880" y="2514600"/>
              <a:ext cx="2514600" cy="82404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Argumenti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Image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stru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a daju putanju do slike.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925" name="Line 15"/>
            <p:cNvSpPr/>
            <p:nvPr/>
          </p:nvSpPr>
          <p:spPr>
            <a:xfrm flipH="1">
              <a:off x="5181480" y="297180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926" name="Text Box 18"/>
          <p:cNvSpPr/>
          <p:nvPr/>
        </p:nvSpPr>
        <p:spPr>
          <a:xfrm>
            <a:off x="5867280" y="3429000"/>
            <a:ext cx="3276720" cy="824040"/>
          </a:xfrm>
          <a:prstGeom prst="rect">
            <a:avLst/>
          </a:prstGeom>
          <a:solidFill>
            <a:srgbClr val="f0f5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ja i inicijalizacij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enterLab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tom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Lab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prikazuje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labelIcon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27" name="Line 19"/>
          <p:cNvSpPr/>
          <p:nvPr/>
        </p:nvSpPr>
        <p:spPr>
          <a:xfrm flipH="1">
            <a:off x="4647960" y="37339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grpSp>
        <p:nvGrpSpPr>
          <p:cNvPr id="928" name="Group 20"/>
          <p:cNvGrpSpPr/>
          <p:nvPr/>
        </p:nvGrpSpPr>
        <p:grpSpPr>
          <a:xfrm>
            <a:off x="4419720" y="1828800"/>
            <a:ext cx="3429000" cy="762120"/>
            <a:chOff x="4419720" y="1828800"/>
            <a:chExt cx="3429000" cy="762120"/>
          </a:xfrm>
        </p:grpSpPr>
        <p:sp>
          <p:nvSpPr>
            <p:cNvPr id="929" name="Text Box 21"/>
            <p:cNvSpPr/>
            <p:nvPr/>
          </p:nvSpPr>
          <p:spPr>
            <a:xfrm>
              <a:off x="5334120" y="1828800"/>
              <a:ext cx="251460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reiranj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Lab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objekta za prikaz stringa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“North”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930" name="Line 22"/>
            <p:cNvSpPr/>
            <p:nvPr/>
          </p:nvSpPr>
          <p:spPr>
            <a:xfrm flipH="1">
              <a:off x="4419720" y="21337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5" dur="1" fill="hold"/>
                                  <p:tgtEl>
                                    <p:spTgt spid="9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ADBE-8302-41BF-AC50-91AF4116E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7165800" y="1066680"/>
            <a:ext cx="167328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abelDemo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34-36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934" name="Object 7"/>
          <p:cNvGraphicFramePr/>
          <p:nvPr/>
        </p:nvGraphicFramePr>
        <p:xfrm>
          <a:off x="0" y="0"/>
          <a:ext cx="7048440" cy="66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48440" cy="66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6" name="Picture 10" descr="ch09_LabelDemo"/>
          <p:cNvPicPr/>
          <p:nvPr/>
        </p:nvPicPr>
        <p:blipFill>
          <a:blip r:embed="rId3"/>
          <a:stretch/>
        </p:blipFill>
        <p:spPr>
          <a:xfrm>
            <a:off x="2133720" y="3657600"/>
            <a:ext cx="2562120" cy="256212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11"/>
          <p:cNvGrpSpPr/>
          <p:nvPr/>
        </p:nvGrpSpPr>
        <p:grpSpPr>
          <a:xfrm>
            <a:off x="4952520" y="914400"/>
            <a:ext cx="4038840" cy="762120"/>
            <a:chOff x="4952520" y="914400"/>
            <a:chExt cx="4038840" cy="762120"/>
          </a:xfrm>
        </p:grpSpPr>
        <p:sp>
          <p:nvSpPr>
            <p:cNvPr id="938" name="Text Box 12"/>
            <p:cNvSpPr/>
            <p:nvPr/>
          </p:nvSpPr>
          <p:spPr>
            <a:xfrm>
              <a:off x="6029640" y="914400"/>
              <a:ext cx="296172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akačimo” labele z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na sjeveru, centru i jugu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939" name="Line 13"/>
            <p:cNvSpPr/>
            <p:nvPr/>
          </p:nvSpPr>
          <p:spPr>
            <a:xfrm flipH="1">
              <a:off x="4952520" y="1219320"/>
              <a:ext cx="1076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4" dur="1" fill="hold"/>
                                  <p:tgtEl>
                                    <p:spTgt spid="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3DAF-FDCE-417D-8A27-FD33D9C9D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28240" y="5483160"/>
            <a:ext cx="8001000" cy="68904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 9.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JLabe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ji prikazuje statistiku o figura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LucidaSansTypewriter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4" descr="ch09_DrawPanel"/>
          <p:cNvPicPr/>
          <p:nvPr/>
        </p:nvPicPr>
        <p:blipFill>
          <a:blip r:embed="rId1"/>
          <a:stretch/>
        </p:blipFill>
        <p:spPr>
          <a:xfrm>
            <a:off x="1981080" y="68580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B99D-5863-413A-BF89-F0531A6B7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 9.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mjeri nasljeđivanj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Object 7"/>
          <p:cNvGraphicFramePr/>
          <p:nvPr/>
        </p:nvGraphicFramePr>
        <p:xfrm>
          <a:off x="1068480" y="2365200"/>
          <a:ext cx="6629400" cy="24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2365200"/>
                    <a:ext cx="6629400" cy="24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8:26:58Z</dcterms:created>
  <dc:creator>PT</dc:creator>
  <dc:description/>
  <dc:language>en-US</dc:language>
  <cp:lastModifiedBy>Goran Sukovic</cp:lastModifiedBy>
  <dcterms:modified xsi:type="dcterms:W3CDTF">2018-12-25T12:31:02Z</dcterms:modified>
  <cp:revision>1027</cp:revision>
  <dc:subject/>
  <dc:title>1</dc:title>
</cp:coreProperties>
</file>